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WHOOSH.WAV" ContentType="audio/x-wav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2CDB-E731-4D6F-B43E-571224D19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FC37-4566-4A87-AD03-5C3D8D1AD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6361-258A-43F5-93F0-EE6FABA7D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0A15-4306-4621-A816-7799B1053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2158B-5FD7-42B1-8119-DE77E1F86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F114F-2FF2-423B-BD20-66D337CE4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4BAA5-EB82-48F0-B0EA-F70DB5ADF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ECF79-43CA-4932-B1A1-67D35C25B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1F803-7333-44FE-B0DD-C738F53F0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CA1FC-F69B-491E-97C3-F8B5FEF73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B2F79-6FBE-4B05-9A3B-B070D57D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C480-A7F2-4BC1-B4E9-AA17270F9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83366-CBE7-4F00-8940-1F134C71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8E408-BEA7-450E-BA61-105B84E98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35E78-EEBC-44DD-A3C5-6A004390F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6716A-ECE0-4AE3-B977-AFA7E838D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ABCDE-1998-4FBE-AD52-B5A6E429E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61CA-ADB7-43FF-8258-F6EB3059D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AC84-FFD9-46F4-BC07-E03B31234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43FB-462A-4D76-BA37-207E1A32A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AC0A-45E7-4716-81A9-52CD12481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B202-401E-4614-A840-D98EC066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9D40-DF7D-4EA3-B72D-AC23FFEE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212A-4A12-42C2-8D20-56AFC4D3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Jester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Jester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AEF68-963B-4DC4-82E0-27091C6BA5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Jes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Jester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Jester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Jester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Jester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ED4DC-8CD5-41B8-89C0-BB2832CC75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to Keep the Third World Countries at ba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tructural Adjustment Program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World Countri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national removal of subsidies to the poor on basic food stuff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ax systems are made more repressiv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real wage rates are allowed to fall sharpl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tructural Adjustment Loa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Not tied to one specific projec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overnments had to agree on a drastic program of liberalization for multi-million dollar loa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reduced state’s role in the econom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lowering barriers to imports, removing restrictions on foreign investmen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emphasizing production for export rather than for local consump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rivatization and Deregul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reign investment is taking over the developing countri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ess power  and control on the part of the developing stat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an raise rates, which make the poor suff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cal governments are given money to let foreign investment take over. 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olutions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bolish these institu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reate a special UN agency to control the World Bank and the IMF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oples and countries force change on the institutions, by confronting them with evidence of the injustic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ycle of Oppress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44197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Funding for Third World Countri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Never get out of debt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Resources will be depleted to pay the debt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World countries will get poorer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Industrialized countries will be more rich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17" name="Picture 7" descr="10"/>
          <p:cNvPicPr/>
          <p:nvPr/>
        </p:nvPicPr>
        <p:blipFill>
          <a:blip r:embed="rId1"/>
          <a:stretch/>
        </p:blipFill>
        <p:spPr>
          <a:xfrm>
            <a:off x="5105520" y="2362320"/>
            <a:ext cx="373356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trategic implementation of repaymen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Once offered funds, Third World Countries will never be out of deb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Kept in a cycle of repaymen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is binds the less  industrialized countries to ask for more fund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e process of granting aid should be slowed down or thrown ou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orks Cite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Arnold, G.(1985). </a:t>
            </a:r>
            <a:r>
              <a:rPr b="0" lang="en-US" sz="2400" spc="-1" strike="noStrike" u="sng">
                <a:solidFill>
                  <a:srgbClr val="ccecff"/>
                </a:solidFill>
                <a:uFillTx/>
                <a:latin typeface="Tahoma"/>
              </a:rPr>
              <a:t>Aid and the Third World: The North/South Divide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. London, Great Britain: Robert Royce Limited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Danaher, K. (1994). </a:t>
            </a:r>
            <a:r>
              <a:rPr b="0" lang="en-US" sz="2400" spc="-1" strike="noStrike" u="sng">
                <a:solidFill>
                  <a:srgbClr val="ccecff"/>
                </a:solidFill>
                <a:uFillTx/>
                <a:latin typeface="Tahoma"/>
              </a:rPr>
              <a:t>50 Years is Enough: The Case Against The World Bank and the International Monetary Fund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. Boston, MA: South End Press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orks Cite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Hancock, G. (1989). </a:t>
            </a:r>
            <a:r>
              <a:rPr b="0" lang="en-US" sz="2400" spc="-1" strike="noStrike" u="sng">
                <a:solidFill>
                  <a:srgbClr val="ccecff"/>
                </a:solidFill>
                <a:uFillTx/>
                <a:latin typeface="Tahoma"/>
              </a:rPr>
              <a:t>Lords of Poverty: The free-wheeling lifestyles, power, prestige and corruption of the multi-billion dollar aid business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. London, Great Britain: MacMillan London Limited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Herman, E. S. (1995). </a:t>
            </a:r>
            <a:r>
              <a:rPr b="0" lang="en-US" sz="2400" spc="-1" strike="noStrike" u="sng">
                <a:solidFill>
                  <a:srgbClr val="ccecff"/>
                </a:solidFill>
                <a:uFillTx/>
                <a:latin typeface="Tahoma"/>
              </a:rPr>
              <a:t>Triumph of the Market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. Boston, MA: South End Press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cipients of Ai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ngle commodity countri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prices fluctuates because of the world market econom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ack of trained peop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building an educational system takes tim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insufficient amount of people to learn the technolog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cipients of Ai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Quest for capita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ek it overseas because of lack of supply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Need for foodstuff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implemented policies  to encourage cash crop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food for consumption diminished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need food imports to feed citizen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Bilateral Ai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 aid from one country to another, usually from First World countries to Third World countri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Multilateral Ai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id that is funneled by a non-affiliated agency, such as the World Bank or UN agenci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onsidered to be more objectiv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less politically affiliated and more freedom is granted to the developing countr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less intrus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orld Bank               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istor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reated to help in reconstruction after WWII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Grant loans for non-profitable construction like roads, schools, and housing projects. 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Loan money to less industrious countries for promotion of their economic growth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ernational Monetary Fun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ission is to supply member states with money to help them to overcome short-term balance of payment difficulti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ney is only made available after the recipients have agreed to policy reforms in their economies-to structural adjustmen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embership of the World Bank is conditional upon membership of the IMF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tructural Adjustment Program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Grant other more industrialized countries, like the US, access to resources like cheaper labor and foreign investment with lower export tariffs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4873680" y="1981080"/>
            <a:ext cx="3359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sequences of Ai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4495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Economic depreva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Social expenditures are slashed, like health and education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Environmental devasta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Massive deforestation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Near extinction of nearby coastal fish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graphicFrame>
        <p:nvGraphicFramePr>
          <p:cNvPr id="104" name="Object 7"/>
          <p:cNvGraphicFramePr/>
          <p:nvPr/>
        </p:nvGraphicFramePr>
        <p:xfrm>
          <a:off x="6602400" y="3492360"/>
          <a:ext cx="349200" cy="41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02400" y="3492360"/>
                    <a:ext cx="34920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Picture 9" descr="07"/>
          <p:cNvPicPr/>
          <p:nvPr/>
        </p:nvPicPr>
        <p:blipFill>
          <a:blip r:embed="rId3"/>
          <a:stretch/>
        </p:blipFill>
        <p:spPr>
          <a:xfrm>
            <a:off x="5029200" y="2743200"/>
            <a:ext cx="38098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9T06:27:23Z</dcterms:created>
  <dc:creator>Emily Dao</dc:creator>
  <dc:description/>
  <dc:language>en-US</dc:language>
  <cp:lastModifiedBy>ED18</cp:lastModifiedBy>
  <dcterms:modified xsi:type="dcterms:W3CDTF">2012-03-20T18:30:47Z</dcterms:modified>
  <cp:revision>11</cp:revision>
  <dc:subject/>
  <dc:title>The Strategic Deprivation of Third World Countr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eclectic.ss.uci.edu</vt:lpwstr>
  </property>
  <property fmtid="{D5CDD505-2E9C-101B-9397-08002B2CF9AE}" pid="9" name="LinkColor">
    <vt:r8>16711782</vt:r8>
  </property>
  <property fmtid="{D5CDD505-2E9C-101B-9397-08002B2CF9AE}" pid="10" name="MailAddress">
    <vt:lpwstr>drwhite@uci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D:\ftp\Anthro174-XC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