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3E3-B7C3-4F5D-9271-1ECB8620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00E-32DF-426E-8C39-D239C9B9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7FB-6197-4C05-84C7-85F04F1B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289-711D-4793-BA01-8F26A077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CD23-46C7-4E9E-803F-2FB905C5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DD28-948E-4B93-A52C-79D1D144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B2C4-AA0F-4E4A-96FE-2C64F19A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0274-D367-484E-AB1F-755D93CC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9A64-A24D-4679-8B8B-29250FDC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DCD-4E01-40EA-AE99-013201CA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787F-F159-4845-8782-4809C4B4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9AE-0DFE-4E9F-BA40-EAD3C433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9666-3611-403B-A449-BA3F8A22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1500-A510-403C-BEC4-F2DF2585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6F10-7AFB-4A54-B1D8-0F20B28C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091-08D0-4881-B556-49D446B4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7217-9226-42D1-8CBA-DC4AF4E1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6F0-6E07-4357-8AE9-0249078A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F88-911B-43AD-B9AA-F6871FDB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AF2-0C7E-430B-B384-26F5C29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177-2D4F-41FC-9CE4-711445C9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700-1440-4843-A725-C416444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98A-380C-4CDF-8482-702581A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10F-FDED-4F58-B9BD-181D46D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261A-30B8-4D30-8D6C-E2F63F80E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B11E-579E-4C54-A478-7D81003B3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Picture 7" descr="10"/>
          <p:cNvPicPr/>
          <p:nvPr/>
        </p:nvPicPr>
        <p:blipFill>
          <a:blip r:embed="rId1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Object 7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9" descr="07"/>
          <p:cNvPicPr/>
          <p:nvPr/>
        </p:nvPicPr>
        <p:blipFill>
          <a:blip r:embed="rId3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ED18</cp:lastModifiedBy>
  <dcterms:modified xsi:type="dcterms:W3CDTF">2012-03-20T18:30:47Z</dcterms:modified>
  <cp:revision>11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