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4D91-DC1E-497A-BDC1-AFEB92D4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6A6-1556-43B9-9444-C621B0AB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B5A-9A20-43EA-B252-C701774B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91A-B164-4F16-BBD6-728D9F58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B890-B066-4646-A147-0BC36BD0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14FF-8226-484B-8A21-FAB6BE9C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22E0-7B68-4982-838A-707467EE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6549-E3B4-4F17-97FF-0DD1ACBA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699E-D16D-49CD-8E6A-A8A81BAF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8ABF-03E3-44D1-A367-0F17027C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2D0B-2046-4614-8275-C956532D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1BB2-FF6C-4174-99ED-3CE9C07B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55FF-7573-4845-AB5B-78A9F2D7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E672-5161-4BB9-AD1B-60237F0E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21EA-CB61-4F12-935D-706C7A5E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ABA4-68EC-4C23-8A8D-13119CB4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0808-2FC6-46E1-B101-49B4C5B7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E29-602F-4530-8CE4-22025CA9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5A9-6B06-4459-A8FC-5A31E95C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7A8-EA3D-45E1-ABA7-CEEE9006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DCF-1B41-4613-AEFB-3263555E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456-FBDB-4D26-89A2-6C58E7A3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F64-6A4E-4147-8078-E2EFEC2C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6A7-37CD-46BD-A875-AB12EADC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5CE2-10B6-45FB-ABAB-9B2C314D7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6D9E-9EC4-46E7-A32A-6C45D26802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Keep the Third World Countries at ba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tional removal of subsidies to the poor on basic food stuff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x systems are made more repress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al wage rates are allowed to fall sharp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Lo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t tied to one specific proje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vernments had to agree on a drastic program of liberalization for multi-million dollar lo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duced state’s role in the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wering barriers to imports, removing restrictions on foreign invest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hasizing production for export rather than for local consump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vatization and Deregul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eign investment is taking over the developing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ss power  and control on the part of the developing st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raise rates, which make the poor suff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cal governments are given money to let foreign investment take over.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lutions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olish these institu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eate a special UN agency to control the World Bank and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oples and countries force change on the institutions, by confronting them with evidence of the injust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ycle of Oppress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197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unding for Third World Countr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ver get out of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sources will be depleted to pay the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World countries will get poor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dustrialized countries will be more ric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7" name="Picture 7" descr="10"/>
          <p:cNvPicPr/>
          <p:nvPr/>
        </p:nvPicPr>
        <p:blipFill>
          <a:blip r:embed="rId1"/>
          <a:stretch/>
        </p:blipFill>
        <p:spPr>
          <a:xfrm>
            <a:off x="5105520" y="2362320"/>
            <a:ext cx="37335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ategic implementation of repay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ce offered funds, Third World Countries will never be out of deb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ept in a cycle of repay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binds the less  industrialized countries to ask for more fu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process of granting aid should be slowed down or thrown ou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rnold, G.(198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Aid and the Third World: The North/South Divid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Robert Royce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anaher, K. (1994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50 Years is Enough: The Case Against The World Bank and the International Monetary Fund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ncock, G. (1989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Lords of Poverty: The free-wheeling lifestyles, power, prestige and corruption of the multi-billion dollar aid busines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MacMillan London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rman, E. S. (199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Triumph of the Market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ngle commodity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ices fluctuates because of the world market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ack of trained peo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ilding an educational system takes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ufficient amount of people to learn the technolog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est for capit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ek it overseas because of lack of supply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ed for foodstuff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ed policies  to encourage cash crop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od for consumption diminish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ed food imports to feed citize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 aid from one country to another, usually from First World countries to 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lt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id that is funneled by a non-affiliated agency, such as the World Bank or UN agenc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idered to be more object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politically affiliated and more freedom is granted to the developing countr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intrus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ld Bank               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eated to help in reconstruction after WWI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loans for non-profitable construction like roads, schools, and housing projects.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an money to less industrious countries for promotion of their economic growth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rnational Monetary Fu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ssion is to supply member states with money to help them to overcome short-term balance of payment difficul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ney is only made available after the recipients have agreed to policy reforms in their economies-to structural adjust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mbership of the World Bank is conditional upon membership of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other more industrialized countries, like the US, access to resources like cheaper labor and foreign investment with lower export tariff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335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sequence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conomic deprev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ocial expenditures are slashed, like health and educ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nvironmental devast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assive deforest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ar extinction of nearby coastal fis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4" name="Object 7"/>
          <p:cNvGraphicFramePr/>
          <p:nvPr/>
        </p:nvGraphicFramePr>
        <p:xfrm>
          <a:off x="6602400" y="3492360"/>
          <a:ext cx="34920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0" y="3492360"/>
                    <a:ext cx="3492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9" descr="07"/>
          <p:cNvPicPr/>
          <p:nvPr/>
        </p:nvPicPr>
        <p:blipFill>
          <a:blip r:embed="rId3"/>
          <a:stretch/>
        </p:blipFill>
        <p:spPr>
          <a:xfrm>
            <a:off x="5029200" y="274320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06:27:23Z</dcterms:created>
  <dc:creator>Emily Dao</dc:creator>
  <dc:description/>
  <dc:language>en-US</dc:language>
  <cp:lastModifiedBy>ED18</cp:lastModifiedBy>
  <dcterms:modified xsi:type="dcterms:W3CDTF">2012-03-20T18:30:47Z</dcterms:modified>
  <cp:revision>11</cp:revision>
  <dc:subject/>
  <dc:title>The Strategic Deprivation of Third World Countr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eclectic.ss.uci.edu</vt:lpwstr>
  </property>
  <property fmtid="{D5CDD505-2E9C-101B-9397-08002B2CF9AE}" pid="9" name="LinkColor">
    <vt:r8>16711782</vt:r8>
  </property>
  <property fmtid="{D5CDD505-2E9C-101B-9397-08002B2CF9AE}" pid="10" name="MailAddress">
    <vt:lpwstr>drwhite@uci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D:\ftp\Anthro174-XC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