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D50-ACDF-4BF9-93CB-548E697E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3FE-B7FD-465B-9379-0AE56631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141-13E8-44CC-9669-542EAA7A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0E1-17FC-4F81-B8FE-CFEA661E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5064-89DD-49D8-802A-371C9277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AFA2-1970-484F-B835-159DD702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A546-F1A9-4838-B93B-C716E53F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F4F8-1CAF-4FC9-9B6F-88967E20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0DA9-9F92-4FE7-99DC-2D2AC50C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65BA-67D6-40FF-B7F4-55ADE357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1674-49D9-45F0-AFCA-7D3B14DE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4EB-FEC6-41B8-B29C-DEE0FC5E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8A1E-666E-485F-BE25-AE180D9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1A3D-129A-47A1-AC81-FE174BC4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E510-52C2-4542-95A1-55AE1B89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A81A-314D-4144-8948-F46785AC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A093-AFD5-44FE-803C-C7E50E0B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C50-7EB0-4338-ACF6-1BC78322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7A9-1772-4C5C-AA96-260D2CCD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8FB-56A1-43FA-A981-3C4E5543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6B1-EA9A-43FC-8D2F-7A9A5E5D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CFC-0379-4661-8C63-1967379C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41C-8886-4C0D-93D8-70C25823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3F0-55A1-4276-B88D-644F6E66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532E-5435-4A51-96A8-847030D89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B51E-844E-4B16-8B6B-51A79276BE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Keep the Third World Countries at ba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tional removal of subsidies to the poor on basic food stuff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x systems are made more repress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l wage rates are allowed to fall sharp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Lo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t tied to one specific proje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vernments had to agree on a drastic program of liberalization for multi-million dollar lo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duced state’s role in the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wering barriers to imports, removing restrictions on foreign invest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hasizing production for export rather than for local consump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vatization and Deregul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eign investment is taking over the developing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ss power  and control on the part of the developing st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raise rates, which make the poor suff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cal governments are given money to let foreign investment take over.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ution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olish these institu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eate a special UN agency to control the World Bank and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oples and countries force change on the institutions, by confronting them with evidence of the injust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cle of Oppres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unding for Third World Countr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ver get out of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sources will be depleted to pay the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World countries will get poor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dustrialized countries will be more ri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7" name="Picture 7" descr="10"/>
          <p:cNvPicPr/>
          <p:nvPr/>
        </p:nvPicPr>
        <p:blipFill>
          <a:blip r:embed="rId1"/>
          <a:stretch/>
        </p:blipFill>
        <p:spPr>
          <a:xfrm>
            <a:off x="5105520" y="2362320"/>
            <a:ext cx="37335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ategic implementation of repay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ce offered funds, Third World Countries will never be out of deb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ept in a cycle of repay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binds the less  industrialized countries to ask for more fu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process of granting aid should be slowed down or thrown o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nold, G.(198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Aid and the Third World: The North/South Divid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Robert Royce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anaher, K. (1994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50 Years is Enough: The Case Against The World Bank and the International Monetary Fund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ncock, G. (1989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Lords of Poverty: The free-wheeling lifestyles, power, prestige and corruption of the multi-billion dollar aid busine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MacMillan London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man, E. S. (199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Triumph of the Market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ngle commodity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ices fluctuates because of the world market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ck of trained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ing an educational system takes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ufficient amount of people to learn the technolog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est for capit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ek it overseas because of lack of supply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for foodstuff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ed policies  to encourage cash crop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od for consumption diminish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ed food imports to feed citize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aid from one country to another, usually from First World countries to 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id that is funneled by a non-affiliated agency, such as the World Bank or UN agenc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idered to be more object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politically affiliated and more freedom is granted to the developing countr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intrus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ld Bank               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eated to help in reconstruction after WWI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loans for non-profitable construction like roads, schools, and housing projects.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an money to less industrious countries for promotion of their economic growth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rnational Monetary F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ssion is to supply member states with money to help them to overcome short-term balance of payment difficul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ney is only made available after the recipients have agreed to policy reforms in their economies-to structural adjust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mbership of the World Bank is conditional upon membership of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other more industrialized countries, like the US, access to resources like cheaper labor and foreign investment with lower export tariff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equence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conomic deprev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ocial expenditures are slashed, like health and educ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vironmental devas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assive defores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ar extinction of nearby coastal fis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4" name="Object 7"/>
          <p:cNvGraphicFramePr/>
          <p:nvPr/>
        </p:nvGraphicFramePr>
        <p:xfrm>
          <a:off x="6602400" y="3492360"/>
          <a:ext cx="34920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0" y="3492360"/>
                    <a:ext cx="3492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9" descr="07"/>
          <p:cNvPicPr/>
          <p:nvPr/>
        </p:nvPicPr>
        <p:blipFill>
          <a:blip r:embed="rId3"/>
          <a:stretch/>
        </p:blipFill>
        <p:spPr>
          <a:xfrm>
            <a:off x="5029200" y="274320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06:27:23Z</dcterms:created>
  <dc:creator>Emily Dao</dc:creator>
  <dc:description/>
  <dc:language>en-US</dc:language>
  <cp:lastModifiedBy>ED18</cp:lastModifiedBy>
  <dcterms:modified xsi:type="dcterms:W3CDTF">2012-03-20T18:30:47Z</dcterms:modified>
  <cp:revision>11</cp:revision>
  <dc:subject/>
  <dc:title>The Strategic Deprivation of Third World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eclectic.ss.uci.edu</vt:lpwstr>
  </property>
  <property fmtid="{D5CDD505-2E9C-101B-9397-08002B2CF9AE}" pid="9" name="LinkColor">
    <vt:r8>16711782</vt:r8>
  </property>
  <property fmtid="{D5CDD505-2E9C-101B-9397-08002B2CF9AE}" pid="10" name="MailAddress">
    <vt:lpwstr>drwhite@uci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D:\ftp\Anthro174-XC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