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683-8B3E-4600-95B1-CD5DDF5C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09E-6F83-4EF9-B2DA-BA61F8A9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134-B2B3-4E0E-980A-C0DF9789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4F7-A042-4897-BD2B-4412AEB4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12BA-157D-4CF4-B57A-234E1956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1F4C-8831-4FC8-909B-3A1C206D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F770-E678-4C21-BF9C-B08A07D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A9E0-202C-4115-8C09-449C8ADB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1E7B-C576-4694-AA4C-0F92A6AB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ABB5-4B72-4FDC-8157-22F9AB33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6DDA-4FBB-4A21-B636-AB8135B6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D55-9B8C-4034-9222-E15CB57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8B0D-C149-4F10-A84A-B3D25AB3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0D74-B13D-4098-A6A0-ADAD371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8CE3-DC2A-40E2-8FDD-251F51EB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F60E-1693-4FF4-90EF-51B6B67C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5A91-AE8B-4D97-81D2-A9AF93F6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221-A49E-45D8-9412-B5035C6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27E-4D91-4558-8B22-A8891FFF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19E-E3A9-4FA2-944E-F62261C1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F91-7E6D-44AF-A1D5-8D36C5AC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4B4-F1C4-4BA0-B41F-70422AB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830-1360-41FE-BD0E-4C6B1E20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7C5-59EB-4B4D-A9B2-501891FD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d9d9f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208e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8E0-2BB9-494C-9BCF-78C7D35528F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3050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020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060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d9d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30505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208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0606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3050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B641-A3D1-4837-A446-260F7601457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3050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3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05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bskids.org/democracy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news.bbc.co.uk/cbbcnews/hi/find_out/guides/world/united_nations/types_of_government/newsid_2151000/2151570.stm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users.erols.com/mwhite28/govt-all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school.discovery.com/lessonplans/programs/tlc-ancientrome/index.html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sad17.k12.me.us/teachers/bburns/com/units/government/types_of_government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mindprod.com/images/khomeini.jpg&amp;imgrefurl=http://mindprod.com/politics/bushismsayatolla.html&amp;h=241&amp;w=191&amp;sz=14&amp;hl=en&amp;start=1&amp;tbnid=Urb64w-SokwGiM:&amp;tbnh=110&amp;tbnw=87&amp;prev=/images%3Fq%3Dayatollah%2Bkhomeini%26svnum%3D10%26hl%3Den%26safe%3Dactive%26rls%3DGGLR,GGLR:2006-37,GGLR: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img.infoplease.com/images/taliban.jpg&amp;imgrefurl=http://www.infoplease.com/spot/taliban.html&amp;h=269&amp;w=180&amp;sz=21&amp;hl=en&amp;start=1&amp;tbnid=8dbI04p-RpP26M:&amp;tbnh=113&amp;tbnw=76&amp;prev=/images%3Fq%3Dtaliban%26svnum%3D10%26hl%3Den%26safe%3Dactive%26rls%3DGGLR,GGLR:2006-37,GGLR: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hyperlink" Target="http://images.google.com/imgres?imgurl=http://www.gutenberg.org/files/13103/13103-h/images/001%2520Queen%2520Victoria.jpg&amp;imgrefurl=http://www.gutenberg.org/files/13103/13103-h/13103-h.htm&amp;h=737&amp;w=545&amp;sz=90&amp;hl=en&amp;start=5&amp;tbnid=xfGt3lrJ48HSJM:&amp;tbnh=141&amp;tbnw=104&amp;prev=/images%3Fq%3Dqueen%2Bvictoria%26svnum%3D10%26hl%3Den%26safe%3Dactive%26rls%3DGGLR,GGLR:2006-37,GGLR:en%26sa%3DN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Arial"/>
              </a:rPr>
              <a:t>Types of Govern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volutionar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f a government is overthrown by force, the new ruling group is sometimes called a revolutionary government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124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y is a situation where there is no government. This can happen after a civil war in a country, when a government has been destroyed and rival groups are fighting to take its plac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narchists are people who believe that government is a bad thing in that it stops people organizing their own lives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600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2"/>
              </a:rPr>
              <a:t>The Democracy Projec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4"/>
              </a:rPr>
              <a:t>BBC Types of Government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6"/>
              </a:rPr>
              <a:t>World Population Under Various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8"/>
              </a:rPr>
              <a:t>Dictator for A Day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208ea"/>
                </a:solidFill>
                <a:uFillTx/>
                <a:latin typeface="Arial"/>
                <a:hlinkClick r:id="rId10"/>
              </a:rPr>
              <a:t>Types of Governments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a democracy, the government is elected by the people. Everyone who is eligible to vote has a chance to have their say over who runs the country. It is distinct from governments controlled by a particular social class or group (aristocracy; oligarchy) or by a single person (despotism; dictatorship; monarchy)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democracy is determined either directly or through elected representative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1285920" cy="1257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10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publi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republic is a country in which the people vote for representatives who vote on issues…it is an indirect democrac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head of the country is usually an elected president, or a prime minist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e United States is a Republic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OCRAC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Structure where the government is based on “divine” guidance, or lead by someone who is considered divine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Religion is the State, the State is the Religion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3960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25880" y="1981080"/>
            <a:ext cx="325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government in which a few people such as a dominant clan or clique have power.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636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5268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monarchy has a king, queen, emperor or empress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The ruling position can be passed on to the ruler’s heirs…This kind of rule is called heretic. 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In some traditional monarchies, the monarch has absolute power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0505"/>
                </a:solidFill>
                <a:latin typeface="Arial"/>
              </a:rPr>
              <a:t>A constitutional monarchy, like the UK, also has a democratic government that limits the monarch's control.</a:t>
            </a:r>
            <a:endParaRPr b="0" lang="en-US" sz="2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143000" y="533520"/>
            <a:ext cx="156204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3492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3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762120"/>
            <a:ext cx="11890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otalitari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This is a country with only one political part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People are forced to do what the government tells them and may also be prevented from leaving the country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41911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A country ruled by a single leader. The leader has not been elected and may use force to keep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military dictatorship, the army is in control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262404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1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munis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n a communist country, the government owns property such as businesses and farms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0505"/>
                </a:solidFill>
                <a:latin typeface="Arial"/>
              </a:rPr>
              <a:t>It provides its people's healthcare, education and welfare. </a:t>
            </a: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0505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752480" y="457200"/>
            <a:ext cx="1040040" cy="1523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2819520" y="4648320"/>
            <a:ext cx="4152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5:52:36Z</dcterms:created>
  <dc:creator>admin</dc:creator>
  <dc:description/>
  <dc:language>en-US</dc:language>
  <cp:lastModifiedBy>nbdoe</cp:lastModifiedBy>
  <dcterms:modified xsi:type="dcterms:W3CDTF">2008-09-17T12:11:58Z</dcterms:modified>
  <cp:revision>19</cp:revision>
  <dc:subject/>
  <dc:title>Slide 1</dc:title>
</cp:coreProperties>
</file>