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E54-C89F-48E7-B8DE-19A254C1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08F-814D-4DAA-A340-FBC4FBD2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D6A-155E-45A4-B6A3-B9373CB9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0AA-AED6-4A3E-BBCC-824A262F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5033-A961-40CD-B15D-9123D0CD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9B03-30B5-4B06-AEF9-5FD2611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9897-B178-430B-9C1B-5BC2BCD0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D643-F369-46B1-B4F9-60A1D6BA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C0A7-E1E0-4EEC-809E-6BF6781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0B8-7EB6-43DF-88E3-702A01CB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B496-94E6-4583-B256-C544F1B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8C8-7439-4BB0-A9B8-A13F41AE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EBD4-97BF-4027-832D-E54C542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5326-6264-4EFD-BCFC-B3098BB3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C73A-76B2-4A4F-AFBD-E60B7D6B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57FA-C457-40D9-85AA-46EDA33C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6E2-D569-41BC-A888-C3A606E1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FF5-A09E-4CE6-AC3E-E6E03886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A3F-9888-4F2F-A2C4-5E8C990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5C5-E870-465B-B632-53580BE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B13-18F5-4722-B5B4-8ABDDFD9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66F-B248-4189-9729-FA8D5A06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0F3-6A1E-4819-A1FE-6D122E4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2CF-DE46-444B-A59F-5D9B4271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208e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48F-E622-4E65-BFE1-5EEB42F1783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20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060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d9d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90C-61B4-4DD0-9DF4-D1954230C904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3050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bskids.org/democracy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news.bbc.co.uk/cbbcnews/hi/find_out/guides/world/united_nations/types_of_government/newsid_2151000/2151570.stm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users.erols.com/mwhite28/govt-all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school.discovery.com/lessonplans/programs/tlc-ancientrome/index.html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sad17.k12.me.us/teachers/bburns/com/units/government/types_of_government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mindprod.com/images/khomeini.jpg&amp;imgrefurl=http://mindprod.com/politics/bushismsayatolla.html&amp;h=241&amp;w=191&amp;sz=14&amp;hl=en&amp;start=1&amp;tbnid=Urb64w-SokwGiM:&amp;tbnh=110&amp;tbnw=87&amp;prev=/images%3Fq%3Dayatollah%2Bkhomeini%26svnum%3D10%26hl%3Den%26safe%3Dactive%26rls%3DGGLR,GGLR:2006-37,GGLR: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img.infoplease.com/images/taliban.jpg&amp;imgrefurl=http://www.infoplease.com/spot/taliban.html&amp;h=269&amp;w=180&amp;sz=21&amp;hl=en&amp;start=1&amp;tbnid=8dbI04p-RpP26M:&amp;tbnh=113&amp;tbnw=76&amp;prev=/images%3Fq%3Dtaliban%26svnum%3D10%26hl%3Den%26safe%3Dactive%26rls%3DGGLR,GGLR:2006-37,GGLR: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hyperlink" Target="http://images.google.com/imgres?imgurl=http://www.gutenberg.org/files/13103/13103-h/images/001%2520Queen%2520Victoria.jpg&amp;imgrefurl=http://www.gutenberg.org/files/13103/13103-h/13103-h.htm&amp;h=737&amp;w=545&amp;sz=90&amp;hl=en&amp;start=5&amp;tbnid=xfGt3lrJ48HSJM:&amp;tbnh=141&amp;tbnw=104&amp;prev=/images%3Fq%3Dqueen%2Bvictoria%26svnum%3D10%26hl%3Den%26safe%3Dactive%26rls%3DGGLR,GGLR:2006-37,GGLR:en%26sa%3DN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ypes of Govern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volutionar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f a government is overthrown by force, the new ruling group is sometimes called a revolutionary government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124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y is a situation where there is no government. This can happen after a civil war in a country, when a government has been destroyed and rival groups are fighting to take its plac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ists are people who believe that government is a bad thing in that it stops people organizing their own lives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600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2"/>
              </a:rPr>
              <a:t>The Democracy Projec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4"/>
              </a:rPr>
              <a:t>BBC Types of Governmen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6"/>
              </a:rPr>
              <a:t>World Population Under Various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8"/>
              </a:rPr>
              <a:t>Dictator for A Day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10"/>
              </a:rPr>
              <a:t>Types of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a democracy, the government is elected by the people. Everyone who is eligible to vote has a chance to have their say over who runs the country. It is distinct from governments controlled by a particular social class or group (aristocracy; oligarchy) or by a single person (despotism; dictatorship; monarchy)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democracy is determined either directly or through elected representative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1285920" cy="1257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10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publi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republic is a country in which the people vote for representatives who vote on issues…it is an indirect democrac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head of the country is usually an elected president, or a prime minist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United States is a Republic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tructure where the government is based on “divine” guidance, or lead by someone who is considered divine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Religion is the State, the State is the Religion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3960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25880" y="1981080"/>
            <a:ext cx="325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government in which a few people such as a dominant clan or clique have pow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636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526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monarchy has a king, queen, emperor or empres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The ruling position can be passed on to the ruler’s heirs…This kind of rule is called heretic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some traditional monarchies, the monarch has absolute power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constitutional monarchy, like the UK, also has a democratic government that limits the monarch's control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143000" y="533520"/>
            <a:ext cx="156204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3492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762120"/>
            <a:ext cx="1189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otalitari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s is a country with only one political part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People are forced to do what the government tells them and may also be prevented from leaving the countr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41911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country ruled by a single leader. The leader has not been elected and may use force to keep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military dictatorship, the army is in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62404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1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munis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communist country, the government owns property such as businesses and farms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t provides its people's healthcare, education and welfar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040040" cy="1523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2819520" y="4648320"/>
            <a:ext cx="4152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5:52:36Z</dcterms:created>
  <dc:creator>admin</dc:creator>
  <dc:description/>
  <dc:language>en-US</dc:language>
  <cp:lastModifiedBy>nbdoe</cp:lastModifiedBy>
  <dcterms:modified xsi:type="dcterms:W3CDTF">2008-09-17T12:11:58Z</dcterms:modified>
  <cp:revision>19</cp:revision>
  <dc:subject/>
  <dc:title>Slide 1</dc:title>
</cp:coreProperties>
</file>