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B9A-9C52-4B23-9BD8-6FA980E2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CFE-3FE6-4EE9-B638-97CBDDF9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7DF-BFD3-4DFC-B9F0-5457750C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EDE-DD67-44FB-99FE-8ED65458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A83A-1A9B-4CCB-81A9-3DE84680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CDB7-107E-4309-A11F-D3C34D7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4601-4A8C-4234-9919-F6C6518B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EF97-EEE6-4776-A798-3DD4FF5A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3799-C732-43DA-AE8B-0A861B11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2937-C50C-4F5A-B353-78DFCEA5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89CF-F25F-4AE8-9208-C80DAFFE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B89-D97E-4302-A9A4-75401BF9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1EC-825A-4303-AAF1-DC716C05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0BA5-8E4D-41D7-93BB-A501CB24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E53C-8C41-4B48-B430-A65F2F2A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BD5D-B22C-44D9-A2AB-36F5968F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8C7E-64C5-4D75-8FC9-56299058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EAF-8D66-4BEB-B543-538CEE48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668-94B5-4BAC-A0DE-E328EA1C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297-C2B7-48CC-9AA4-B64F45C6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681-23A2-44CF-B75F-625B4886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C4F-E4BC-4957-9314-ACBA4A9F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DA5-BB7E-48E9-BD21-0D87B32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6C3-DB1C-4805-84C9-A889A61F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208e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667-8084-471A-9F15-C22B0811D92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020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060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d9d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1A95-24DA-4ACE-876C-B1367F83D4D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3050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bskids.org/democracy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news.bbc.co.uk/cbbcnews/hi/find_out/guides/world/united_nations/types_of_government/newsid_2151000/2151570.stm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users.erols.com/mwhite28/govt-all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school.discovery.com/lessonplans/programs/tlc-ancientrome/index.html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sad17.k12.me.us/teachers/bburns/com/units/government/types_of_government.htm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com/imgres?imgurl=http://mindprod.com/images/khomeini.jpg&amp;imgrefurl=http://mindprod.com/politics/bushismsayatolla.html&amp;h=241&amp;w=191&amp;sz=14&amp;hl=en&amp;start=1&amp;tbnid=Urb64w-SokwGiM:&amp;tbnh=110&amp;tbnw=87&amp;prev=/images%3Fq%3Dayatollah%2Bkhomeini%26svnum%3D10%26hl%3Den%26safe%3Dactive%26rls%3DGGLR,GGLR:2006-37,GGLR: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img.infoplease.com/images/taliban.jpg&amp;imgrefurl=http://www.infoplease.com/spot/taliban.html&amp;h=269&amp;w=180&amp;sz=21&amp;hl=en&amp;start=1&amp;tbnid=8dbI04p-RpP26M:&amp;tbnh=113&amp;tbnw=76&amp;prev=/images%3Fq%3Dtaliban%26svnum%3D10%26hl%3Den%26safe%3Dactive%26rls%3DGGLR,GGLR:2006-37,GGLR:en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hyperlink" Target="http://images.google.com/imgres?imgurl=http://www.gutenberg.org/files/13103/13103-h/images/001%2520Queen%2520Victoria.jpg&amp;imgrefurl=http://www.gutenberg.org/files/13103/13103-h/13103-h.htm&amp;h=737&amp;w=545&amp;sz=90&amp;hl=en&amp;start=5&amp;tbnid=xfGt3lrJ48HSJM:&amp;tbnh=141&amp;tbnw=104&amp;prev=/images%3Fq%3Dqueen%2Bvictoria%26svnum%3D10%26hl%3Den%26safe%3Dactive%26rls%3DGGLR,GGLR:2006-37,GGLR:en%26sa%3DN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Types of Govern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volutionar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f a government is overthrown by force, the new ruling group is sometimes called a revolutionary government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124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y is a situation where there is no government. This can happen after a civil war in a country, when a government has been destroyed and rival groups are fighting to take its plac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ists are people who believe that government is a bad thing in that it stops people organizing their own lives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1600200" cy="1573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1600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2"/>
              </a:rPr>
              <a:t>The Democracy Projec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4"/>
              </a:rPr>
              <a:t>BBC Types of Governmen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6"/>
              </a:rPr>
              <a:t>World Population Under Various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8"/>
              </a:rPr>
              <a:t>Dictator for A Day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10"/>
              </a:rPr>
              <a:t>Types of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a democracy, the government is elected by the people. Everyone who is eligible to vote has a chance to have their say over who runs the country. It is distinct from governments controlled by a particular social class or group (aristocracy; oligarchy) or by a single person (despotism; dictatorship; monarchy)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democracy is determined either directly or through elected representative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324480" y="609480"/>
            <a:ext cx="1285920" cy="1257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1981080" y="609480"/>
            <a:ext cx="110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public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republic is a country in which the people vote for representatives who vote on issues…it is an indirect democrac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head of the country is usually an elected president, or a prime minist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United States is a Republic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tructure where the government is based on “divine” guidance, or lead by someone who is considered divine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Religion is the State, the State is the Religion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3960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25880" y="1981080"/>
            <a:ext cx="325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government in which a few people such as a dominant clan or clique have pow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3636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35268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monarchy has a king, queen, emperor or empres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The ruling position can be passed on to the ruler’s heirs…This kind of rule is called heretic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some traditional monarchies, the monarch has absolute power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constitutional monarchy, like the UK, also has a democratic government that limits the monarch's control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1143000" y="533520"/>
            <a:ext cx="1562040" cy="1828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-3492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762120"/>
            <a:ext cx="11890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otalitari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s is a country with only one political part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People are forced to do what the government tells them and may also be prevented from leaving the countr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41911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ictatorshi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country ruled by a single leader. The leader has not been elected and may use force to keep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military dictatorship, the army is in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62404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1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munis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communist country, the government owns property such as businesses and farms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t provides its people's healthcare, education and welfar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1040040" cy="15238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2819520" y="4648320"/>
            <a:ext cx="41529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5:52:36Z</dcterms:created>
  <dc:creator>admin</dc:creator>
  <dc:description/>
  <dc:language>en-US</dc:language>
  <cp:lastModifiedBy>nbdoe</cp:lastModifiedBy>
  <dcterms:modified xsi:type="dcterms:W3CDTF">2008-09-17T12:11:58Z</dcterms:modified>
  <cp:revision>19</cp:revision>
  <dc:subject/>
  <dc:title>Slide 1</dc:title>
</cp:coreProperties>
</file>