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F78-727E-4203-884D-74D79A5E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81F-50D2-4DE0-AF88-A30CCCBA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480-FD65-4CF2-AB2C-9978D7B2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5F1-3C27-446E-8168-7A99B770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655-E04F-4E48-9DCB-1B6A5DFF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EA8-C9BF-4B66-97D5-09022632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5EC-244D-4509-8C44-23968157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B71-C88C-4D64-8943-EF5F6D7A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D1A-CCA6-4B5C-A994-148B2235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2A2-04D4-468C-B405-85B24860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402-1503-483B-BA77-7A089EFF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3D0-BDEC-4B89-9DD8-99CD2D4B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170F-469E-49BA-B545-E004B802D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65560" y="1600200"/>
            <a:ext cx="2612880" cy="218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tor’s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from simply wrapping paper around a translucent globe onto a wall and then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problems with this map if a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lweide’s map (19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principles of projections actual sh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’s map (19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the concerns of proportion and was touted as the true accurate map of the world. Why isn’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25760"/>
            <a:ext cx="4038480" cy="213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09640" y="3938760"/>
            <a:ext cx="33321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kel Tripel’s projection (185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he idea that lines of latitude and longitude are not necessary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are curved using a formula then land masses are inserted according to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ything wrong with this ma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765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 here and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384200"/>
            <a:ext cx="80071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aaaaaa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8:34:22Z</dcterms:created>
  <dc:creator>nbdoe</dc:creator>
  <dc:description/>
  <dc:language>en-US</dc:language>
  <cp:lastModifiedBy>nbdoe</cp:lastModifiedBy>
  <dcterms:modified xsi:type="dcterms:W3CDTF">2009-09-16T13:54:32Z</dcterms:modified>
  <cp:revision>3</cp:revision>
  <dc:subject/>
  <dc:title>Types of Maps</dc:title>
</cp:coreProperties>
</file>