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CCDA-0338-4472-B767-D810C7C3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7E2-2B77-4293-BB0A-5FCFEF5D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D0A-760A-4138-966D-EFFA2609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ABCA-8A2A-4E5D-8F87-EE0B816C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095-85F7-42E3-A956-15E0E3AF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4C9-052A-4635-9E12-70E8EBCC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0AF-783D-42BD-BE80-3EA096EA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6AE0-103C-477C-BF84-BF02CDD5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97FE-C5D1-4992-9335-BEEEE53A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D0F1-EF97-45C0-8050-B9C2C0C9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6DF-256D-47DC-BD64-53343A62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EBA-FD31-44B8-BD8A-CACB2F04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0A7C-5D9C-4A0C-B986-907A2454F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65560" y="1600200"/>
            <a:ext cx="2612880" cy="218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ator’s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from simply wrapping paper around a translucent globe onto a wall and then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problems with this map if a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lweide’s map (196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principles of projections actual sha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’s map (197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the concerns of proportion and was touted as the true accurate map of the world. Why isn’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25760"/>
            <a:ext cx="4038480" cy="2135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09640" y="3938760"/>
            <a:ext cx="33321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kel Tripel’s projection (1850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he idea that lines of latitude and longitude are not necessary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s are curved using a formula then land masses are inserted according to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anything wrong with this ma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3765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 here and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384200"/>
            <a:ext cx="800712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oaaaaaa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18:34:22Z</dcterms:created>
  <dc:creator>nbdoe</dc:creator>
  <dc:description/>
  <dc:language>en-US</dc:language>
  <cp:lastModifiedBy>nbdoe</cp:lastModifiedBy>
  <dcterms:modified xsi:type="dcterms:W3CDTF">2009-09-16T13:54:32Z</dcterms:modified>
  <cp:revision>3</cp:revision>
  <dc:subject/>
  <dc:title>Types of Maps</dc:title>
</cp:coreProperties>
</file>