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6B3-08AE-4930-B9EA-D3B19C87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7DA-C8F5-41B2-8803-85E4AD41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2F1-70CF-4ADB-8CC5-EF3A3323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321-DB83-4838-A7EC-5202EA1C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EAC-9D4A-446A-8EBC-46D6B68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0CA-C22E-4E5A-9B8D-73468E2A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C9A-9430-4D9B-8E03-5DFB0494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3B3-8266-43EE-85EA-089BBFF5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62D-58AA-486D-B68A-1589313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E49-14D9-4D1B-A4AA-705DE17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D71-34D4-4CC8-8322-F482341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5F8-C850-4680-A72E-ECD6105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9A45-AF49-4559-AA7B-CBE461A88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5560" y="1600200"/>
            <a:ext cx="261288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r’s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 simply wrapping paper around a translucent globe onto a wall and then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with this map if 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weide’s map (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principles of projections actual 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’s map 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concerns of proportion and was touted as the true accurate map of the world. Why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4038480" cy="21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640" y="3938760"/>
            <a:ext cx="333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kel Tripel’s projection (185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idea that lines of latitude and longitude are not necessary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curved using a formula then land masses are inserted according to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wrong with this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7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here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384200"/>
            <a:ext cx="8007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aaaaaa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8:34:22Z</dcterms:created>
  <dc:creator>nbdoe</dc:creator>
  <dc:description/>
  <dc:language>en-US</dc:language>
  <cp:lastModifiedBy>nbdoe</cp:lastModifiedBy>
  <dcterms:modified xsi:type="dcterms:W3CDTF">2009-09-16T13:54:32Z</dcterms:modified>
  <cp:revision>3</cp:revision>
  <dc:subject/>
  <dc:title>Types of Maps</dc:title>
</cp:coreProperties>
</file>