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705-21E6-44B0-97F6-E44B2698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A7E-ECF9-47E3-8A94-BC4992F8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255-2A8D-4B74-A228-307863F7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F89-D2A4-40EC-92BB-6AAC7DF5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0C5-2E66-4C8C-8BF5-410C189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16F-71DF-47E4-9DA0-DADBFC2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4C2-8BA0-4132-98E8-75BA4D7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D87-6936-451E-8393-4561124D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D14-AF5B-4CBB-B4B9-2C63AF2D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B12-C4D2-4231-ADC0-D4460438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11A-8E64-436A-BE1F-2F1E2E5C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F72-CB1A-4711-A60E-BBC1FB3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EF36-64DA-439D-9A8A-881EC535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5560" y="1600200"/>
            <a:ext cx="261288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r’s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 simply wrapping paper around a translucent globe onto a wall and then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oblems with this map if 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weide’s map (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principles of projections actual 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’s map 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the concerns of proportion and was touted as the true accurate map of the world. Why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25760"/>
            <a:ext cx="4038480" cy="213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9640" y="3938760"/>
            <a:ext cx="333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kel Tripel’s projection (185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idea that lines of latitude and longitude are not necessary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curved using a formula then land masses are inserted according to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wrong with this ma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76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here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384200"/>
            <a:ext cx="8007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aaaaaa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8:34:22Z</dcterms:created>
  <dc:creator>nbdoe</dc:creator>
  <dc:description/>
  <dc:language>en-US</dc:language>
  <cp:lastModifiedBy>nbdoe</cp:lastModifiedBy>
  <dcterms:modified xsi:type="dcterms:W3CDTF">2009-09-16T13:54:32Z</dcterms:modified>
  <cp:revision>3</cp:revision>
  <dc:subject/>
  <dc:title>Types of Maps</dc:title>
</cp:coreProperties>
</file>