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0B0-7AEC-47FE-97BA-E97F3D7B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FE5-3093-43DA-B9DC-AB8E456C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C59-BD23-4243-9F0A-657AF815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EA6-5C6C-453A-8139-85BD15CC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D1FE-E908-4B2A-9E70-3787AEFC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BE73-EAF9-496F-A7C4-F5E6A5C9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BEAF-B292-483B-8A9A-6AD602B7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C7A0-9C9A-4693-806C-0ED9E88D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C6EE-95EF-44C0-9877-D7310B2F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B11F-B966-4AE0-991A-BC723D28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E94F-114A-4491-B610-DD0F9E35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5DC-15C7-4CD7-9D77-E38AB9CF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940D-24CC-4A7A-B421-383FB1AC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D3E8-C4A4-473D-A770-2DBEC5C3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E6AE-6529-43BB-ABFA-A785483F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CFD8-E86D-4503-AF34-626E3117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25C9-03BE-4298-B1DB-CC15EB5E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ED9-CD5E-49C4-8158-3210C454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295-C4F8-44A5-8024-B63BD308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C9C-6CA6-4F86-BF06-BBE5545F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407-9F06-493F-A459-8C9A8CA8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9E6-C3A7-4D54-8C00-9A78D899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C79-C024-45D8-AD59-5C03BE85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3EF-1E59-4DF5-B87B-6E637111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208e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E33A-4984-46D1-9C01-F4BC00C7877D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020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060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d9d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CBF4-C188-4622-A3C9-29E4E406F6BE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3050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bskids.org/democracy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news.bbc.co.uk/cbbcnews/hi/find_out/guides/world/united_nations/types_of_government/newsid_2151000/2151570.stm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users.erols.com/mwhite28/govt-all.htm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school.discovery.com/lessonplans/programs/tlc-ancientrome/index.html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sad17.k12.me.us/teachers/bburns/com/units/government/types_of_government.htm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images.google.com/imgres?imgurl=http://mindprod.com/images/khomeini.jpg&amp;imgrefurl=http://mindprod.com/politics/bushismsayatolla.html&amp;h=241&amp;w=191&amp;sz=14&amp;hl=en&amp;start=1&amp;tbnid=Urb64w-SokwGiM:&amp;tbnh=110&amp;tbnw=87&amp;prev=/images%3Fq%3Dayatollah%2Bkhomeini%26svnum%3D10%26hl%3Den%26safe%3Dactive%26rls%3DGGLR,GGLR:2006-37,GGLR:en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img.infoplease.com/images/taliban.jpg&amp;imgrefurl=http://www.infoplease.com/spot/taliban.html&amp;h=269&amp;w=180&amp;sz=21&amp;hl=en&amp;start=1&amp;tbnid=8dbI04p-RpP26M:&amp;tbnh=113&amp;tbnw=76&amp;prev=/images%3Fq%3Dtaliban%26svnum%3D10%26hl%3Den%26safe%3Dactive%26rls%3DGGLR,GGLR:2006-37,GGLR:en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hyperlink" Target="http://images.google.com/imgres?imgurl=http://www.gutenberg.org/files/13103/13103-h/images/001%2520Queen%2520Victoria.jpg&amp;imgrefurl=http://www.gutenberg.org/files/13103/13103-h/13103-h.htm&amp;h=737&amp;w=545&amp;sz=90&amp;hl=en&amp;start=5&amp;tbnid=xfGt3lrJ48HSJM:&amp;tbnh=141&amp;tbnw=104&amp;prev=/images%3Fq%3Dqueen%2Bvictoria%26svnum%3D10%26hl%3Den%26safe%3Dactive%26rls%3DGGLR,GGLR:2006-37,GGLR:en%26sa%3DN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Types of Govern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volutionar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f a government is overthrown by force, the new ruling group is sometimes called a revolutionary government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124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n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narchy is a situation where there is no government. This can happen after a civil war in a country, when a government has been destroyed and rival groups are fighting to take its place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narchists are people who believe that government is a bad thing in that it stops people organizing their own lives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248520" y="533520"/>
            <a:ext cx="1600200" cy="15732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1676520" y="533520"/>
            <a:ext cx="16002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2"/>
              </a:rPr>
              <a:t>The Democracy Projec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4"/>
              </a:rPr>
              <a:t>BBC Types of Governmen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6"/>
              </a:rPr>
              <a:t>World Population Under Various Governments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8"/>
              </a:rPr>
              <a:t>Dictator for A Day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10"/>
              </a:rPr>
              <a:t>Types of Governments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In a democracy, the government is elected by the people. Everyone who is eligible to vote has a chance to have their say over who runs the country. It is distinct from governments controlled by a particular social class or group (aristocracy; oligarchy) or by a single person (despotism; dictatorship; monarchy). 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democracy is determined either directly or through elected representatives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6324480" y="609480"/>
            <a:ext cx="1285920" cy="1257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1981080" y="609480"/>
            <a:ext cx="110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public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republic is a country in which the people vote for representatives who vote on issues…it is an indirect democrac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e head of the country is usually an elected president, or a prime minister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e United States is a Republic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OCRA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Structure where the government is based on “divine” guidance, or lead by someone who is considered divine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Religion is the State, the State is the Religion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-3960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25880" y="1981080"/>
            <a:ext cx="325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lig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government in which a few people such as a dominant clan or clique have power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-3636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335268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monarchy has a king, queen, emperor or empress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The ruling position can be passed on to the ruler’s heirs…This kind of rule is called heretic. 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In some traditional monarchies, the monarch has absolute power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constitutional monarchy, like the UK, also has a democratic government that limits the monarch's control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1143000" y="533520"/>
            <a:ext cx="1562040" cy="1828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-3492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05720" y="762120"/>
            <a:ext cx="11890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otalitari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is is a country with only one political part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People are forced to do what the government tells them and may also be prevented from leaving the countr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41911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ictatorshi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country ruled by a single leader. The leader has not been elected and may use force to keep control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n a military dictatorship, the army is in control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262404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19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munis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n a communist country, the government owns property such as businesses and farms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t provides its people's healthcare, education and welfare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6324480" y="762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1752480" y="457200"/>
            <a:ext cx="1040040" cy="15238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2819520" y="4648320"/>
            <a:ext cx="41529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5:52:36Z</dcterms:created>
  <dc:creator>admin</dc:creator>
  <dc:description/>
  <dc:language>en-US</dc:language>
  <cp:lastModifiedBy>nbdoe</cp:lastModifiedBy>
  <dcterms:modified xsi:type="dcterms:W3CDTF">2008-09-17T12:11:58Z</dcterms:modified>
  <cp:revision>19</cp:revision>
  <dc:subject/>
  <dc:title>Slide 1</dc:title>
</cp:coreProperties>
</file>