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D63-DB63-45A3-BEFF-99114382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333-4B15-4517-92E2-6AB1FF23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059-52CF-458D-8414-2A07BE6D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F28-85B2-4D8A-8F08-5932269D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CFE1-7A1E-472F-9F80-B91BD075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7DF4-65CC-4512-B5F2-D25FEDE5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D1C8-18E2-4B07-8280-A427AC70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F505-412B-415F-9347-21C11272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3947-350F-44D3-821D-3CACA8ED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13A9-66DB-424D-8F66-AD6C86E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F74F-05C2-478F-B122-B600AFB0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50B-2EEE-4040-82AE-0B942DC4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6AC3-B7EE-402B-9BC5-A8D31CB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9924-9BCB-44DD-8123-D39F5777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E25F-A003-46A0-AECF-E4C4C746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C380-96CA-4D5B-865F-2F1235D9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82FD-E7E7-4914-98E2-EED2610D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31E-195D-4E2B-8D34-8AF4C0DE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3D0-D106-4082-91C4-50A3E505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D94-06AF-40B9-BCBC-58D44733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904-2EE0-42DC-9048-89916DCD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2FD-54D4-4BB5-B343-63EF03C3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300-0CDE-4383-BBD4-F3EA929A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7F3-0274-46D7-92EA-D71586B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208e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EF7C-981C-4628-A0FA-DD3954FC4A1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020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060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d9d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8FBD-32B2-4A02-A2C9-A38EDA146D8D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3050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bskids.org/democracy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news.bbc.co.uk/cbbcnews/hi/find_out/guides/world/united_nations/types_of_government/newsid_2151000/2151570.stm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users.erols.com/mwhite28/govt-all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school.discovery.com/lessonplans/programs/tlc-ancientrome/index.html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sad17.k12.me.us/teachers/bburns/com/units/government/types_of_government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mindprod.com/images/khomeini.jpg&amp;imgrefurl=http://mindprod.com/politics/bushismsayatolla.html&amp;h=241&amp;w=191&amp;sz=14&amp;hl=en&amp;start=1&amp;tbnid=Urb64w-SokwGiM:&amp;tbnh=110&amp;tbnw=87&amp;prev=/images%3Fq%3Dayatollah%2Bkhomeini%26svnum%3D10%26hl%3Den%26safe%3Dactive%26rls%3DGGLR,GGLR:2006-37,GGLR: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img.infoplease.com/images/taliban.jpg&amp;imgrefurl=http://www.infoplease.com/spot/taliban.html&amp;h=269&amp;w=180&amp;sz=21&amp;hl=en&amp;start=1&amp;tbnid=8dbI04p-RpP26M:&amp;tbnh=113&amp;tbnw=76&amp;prev=/images%3Fq%3Dtaliban%26svnum%3D10%26hl%3Den%26safe%3Dactive%26rls%3DGGLR,GGLR:2006-37,GGLR:en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hyperlink" Target="http://images.google.com/imgres?imgurl=http://www.gutenberg.org/files/13103/13103-h/images/001%2520Queen%2520Victoria.jpg&amp;imgrefurl=http://www.gutenberg.org/files/13103/13103-h/13103-h.htm&amp;h=737&amp;w=545&amp;sz=90&amp;hl=en&amp;start=5&amp;tbnid=xfGt3lrJ48HSJM:&amp;tbnh=141&amp;tbnw=104&amp;prev=/images%3Fq%3Dqueen%2Bvictoria%26svnum%3D10%26hl%3Den%26safe%3Dactive%26rls%3DGGLR,GGLR:2006-37,GGLR:en%26sa%3DN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ypes of Govern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volutionar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f a government is overthrown by force, the new ruling group is sometimes called a revolutionary government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124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y is a situation where there is no government. This can happen after a civil war in a country, when a government has been destroyed and rival groups are fighting to take its plac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ists are people who believe that government is a bad thing in that it stops people organizing their own lives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1600200" cy="1573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1600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2"/>
              </a:rPr>
              <a:t>The Democracy Projec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4"/>
              </a:rPr>
              <a:t>BBC Types of Governmen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6"/>
              </a:rPr>
              <a:t>World Population Under Various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8"/>
              </a:rPr>
              <a:t>Dictator for A Day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10"/>
              </a:rPr>
              <a:t>Types of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a democracy, the government is elected by the people. Everyone who is eligible to vote has a chance to have their say over who runs the country. It is distinct from governments controlled by a particular social class or group (aristocracy; oligarchy) or by a single person (despotism; dictatorship; monarchy)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democracy is determined either directly or through elected representative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1285920" cy="1257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1981080" y="609480"/>
            <a:ext cx="110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public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republic is a country in which the people vote for representatives who vote on issues…it is an indirect democrac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head of the country is usually an elected president, or a prime minist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United States is a Republic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tructure where the government is based on “divine” guidance, or lead by someone who is considered divine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Religion is the State, the State is the Religion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3960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25880" y="1981080"/>
            <a:ext cx="325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government in which a few people such as a dominant clan or clique have pow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3636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35268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monarchy has a king, queen, emperor or empres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The ruling position can be passed on to the ruler’s heirs…This kind of rule is called heretic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some traditional monarchies, the monarch has absolute power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constitutional monarchy, like the UK, also has a democratic government that limits the monarch's control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1143000" y="533520"/>
            <a:ext cx="1562040" cy="182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-3492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762120"/>
            <a:ext cx="11890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otalitari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s is a country with only one political part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People are forced to do what the government tells them and may also be prevented from leaving the countr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41911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ctatorshi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country ruled by a single leader. The leader has not been elected and may use force to keep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military dictatorship, the army is in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62404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1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munis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communist country, the government owns property such as businesses and farms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t provides its people's healthcare, education and welfar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040040" cy="15238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2819520" y="4648320"/>
            <a:ext cx="4152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5:52:36Z</dcterms:created>
  <dc:creator>admin</dc:creator>
  <dc:description/>
  <dc:language>en-US</dc:language>
  <cp:lastModifiedBy>nbdoe</cp:lastModifiedBy>
  <dcterms:modified xsi:type="dcterms:W3CDTF">2008-09-17T12:11:58Z</dcterms:modified>
  <cp:revision>19</cp:revision>
  <dc:subject/>
  <dc:title>Slide 1</dc:title>
</cp:coreProperties>
</file>