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51A4-818E-4E90-987D-C8E8A6D7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2C76-CF60-49EE-9FBF-0E2985E8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2A95-C687-4323-8734-666E93A0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ADD2-B565-4F49-AC20-C184C727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1718-62A8-4BB0-A9DF-6BCF33AC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9315-7EE1-49F9-84D9-11976043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A91E-A2D5-4726-A8CF-0DDAE532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7F5D-AC52-4033-936F-0E590529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1E67-BC49-4527-AE9F-51DE51C4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0AFE-4E76-466A-B969-AD29EC4A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FF45-41F9-44BC-BBE5-3BEA2461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859B-9427-4295-937C-CEA1B4BC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D364-7516-42AC-A3E4-0E1D26F4D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65560" y="1600200"/>
            <a:ext cx="2612880" cy="218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ator’s pro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from simply wrapping paper around a translucent globe onto a wall and then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problems with this map if a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lweide’s map (196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s principles of projections actual sha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’s map (197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the concerns of proportion and was touted as the true accurate map of the world. Why isn’t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25760"/>
            <a:ext cx="4038480" cy="2135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09640" y="3938760"/>
            <a:ext cx="33321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kel Tripel’s projection (1850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he idea that lines of latitude and longitude are not necessary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s are curved using a formula then land masses are inserted according to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re anything wrong with this ma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37656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 here and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1384200"/>
            <a:ext cx="800712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oaaaaaa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5T18:34:22Z</dcterms:created>
  <dc:creator>nbdoe</dc:creator>
  <dc:description/>
  <dc:language>en-US</dc:language>
  <cp:lastModifiedBy>nbdoe</cp:lastModifiedBy>
  <dcterms:modified xsi:type="dcterms:W3CDTF">2009-09-16T13:54:32Z</dcterms:modified>
  <cp:revision>3</cp:revision>
  <dc:subject/>
  <dc:title>Types of Maps</dc:title>
</cp:coreProperties>
</file>