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26B5-FD2B-4404-9F5F-A6FD0AFC8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2ABF-DE6D-4DBB-B672-96780333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1615-2C12-4506-93C7-CDB4D1557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8AD6-B5D5-4B72-AC0F-B95F20EC3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3ED9-96DC-4289-A1FC-E07CCA08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678E-80FA-4987-B58C-B639E259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C60C-7D6C-488F-B886-7AEE66A0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948E-96D5-42D7-A82A-077F8742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F8D7-7976-45D2-A57C-821E7562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4D75-BC37-4747-951A-BA30CC0F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A007-68B2-46BB-AD6A-E87DD2F8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FFBE-18D7-4A0F-8022-5FE8B5D4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5232-742E-4110-A4B8-F5EC99403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65560" y="1600200"/>
            <a:ext cx="2612880" cy="218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ator’s pro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from simply wrapping paper around a translucent globe onto a wall and then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problems with this map if a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lweide’s map (196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ates principles of projections actual sha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er’s map (197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the concerns of proportion and was touted as the true accurate map of the world. Why isn’t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25760"/>
            <a:ext cx="4038480" cy="2135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09640" y="3938760"/>
            <a:ext cx="33321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kel Tripel’s projection (1850’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he idea that lines of latitude and longitude are not necessary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s are curved using a formula then land masses are inserted according to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re anything wrong with this ma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37656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 here and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1384200"/>
            <a:ext cx="800712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oaaaaaa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096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5T18:34:22Z</dcterms:created>
  <dc:creator>nbdoe</dc:creator>
  <dc:description/>
  <dc:language>en-US</dc:language>
  <cp:lastModifiedBy>nbdoe</cp:lastModifiedBy>
  <dcterms:modified xsi:type="dcterms:W3CDTF">2009-09-16T13:54:32Z</dcterms:modified>
  <cp:revision>3</cp:revision>
  <dc:subject/>
  <dc:title>Types of Maps</dc:title>
</cp:coreProperties>
</file>