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D4FAB-4979-4D14-B010-395E0C62A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6EA02-AC9E-4F72-8689-F9423F80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1F197-2ECE-46F2-BEE8-AC334E0FE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D2519-E7D0-4D00-9177-AF842FFFD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69D5E-2469-4149-B9FA-2C00A184C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155CF-0D92-4F9F-B20B-618DFD799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DB7A4-1D51-4873-A396-8C4B93800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E2DE4-F354-4A04-8806-9D413FC79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C53CC-A536-4DE3-A8AA-2828B43E9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68245-6356-4DE5-8E17-8C725ED17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DCE06-BE77-4866-9ECB-1CDA3A2B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2EFE-F528-4F7A-83AB-E4617A80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DE9F5-3FDB-4B17-ABA4-E000110B1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AF8CA-477B-4CC2-85F9-B2241A1BE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7290E-AEB9-4034-BFAB-EBF92D7D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7E0BB-B533-4F41-B950-B51DF9F15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F14A7-640E-4A99-8954-6E65673B9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B74EED-95E5-45D0-999C-30E4C47515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AD7AFD-0EB1-42B1-AE78-DE7D308282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090FA7-3621-4F1A-8CD3-9588660CB6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AFEB05-7FEF-4FF8-B324-FC7B4A2A95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4AA2E6-4491-48AB-9C7D-DFD90D0663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4E2A6-61CE-4B0A-8C90-33F82A4C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1CB0E2-CB8C-4A8F-B8E0-15A4791888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318270-C1FE-4579-8275-B65CA4FD38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6836E6-CBF8-4DF2-88BB-4767106B5C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570DE2-7E81-4164-8AB2-CA40238FA5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8925EF-63EE-4DBA-97B6-E6D385AF18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7BE1309-FE20-45FE-907B-D9B668F6AD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C75F7A-5D55-406D-AA52-A0C5C22F80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D713A-4580-4104-B99E-ACEE118F9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05463-70D7-42F3-9F84-46DA63515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BD145-917D-4AD6-BADE-B2D4A4AC0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F823-DFFE-404F-A153-8D197F99E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BE965-8940-4CF4-A14F-534459EA6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E496B-58EA-416B-8243-C62BACFD1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7082A1-64B0-4E57-BA4F-D35CE90A5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14C23-723F-4EC2-95AC-C94B0AA58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08A88-5D68-460B-90E4-6EC2F94C6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C9802-257A-4A7E-84BA-E6BF4EB8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9E0E5-4F5F-4A85-93B5-59D266DB7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56DDA-8F41-4A87-A9CE-91293E284B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35251F-A7B1-42D5-927F-1FF68425E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12EE-2CCF-4AA5-A3C2-5F7E937B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2FDD-7FDC-4396-8031-8C6BB0DB7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5047-A036-4E30-99AD-9F3A65B54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B755-18C2-4265-A0DB-D265D7C9E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BB44-1957-454F-B807-34D06AC98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6865-1DB6-45E1-9A50-43B19853C5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7CA5-DDFA-43FF-806D-765FC5B702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A57A-14EE-46A4-9B4F-220DFF717E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7" name=""/>
          <p:cNvGrpSpPr/>
          <p:nvPr/>
        </p:nvGrpSpPr>
        <p:grpSpPr>
          <a:xfrm>
            <a:off x="0" y="0"/>
            <a:ext cx="9144000" cy="546120"/>
            <a:chOff x="0" y="0"/>
            <a:chExt cx="9144000" cy="546120"/>
          </a:xfrm>
        </p:grpSpPr>
        <p:sp>
          <p:nvSpPr>
            <p:cNvPr id="9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0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9144000" cy="6858000"/>
            <a:chOff x="0" y="0"/>
            <a:chExt cx="9144000" cy="6858000"/>
          </a:xfrm>
        </p:grpSpPr>
        <p:sp>
          <p:nvSpPr>
            <p:cNvPr id="14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0" y="1066680"/>
              <a:ext cx="2867040" cy="3157560"/>
              <a:chOff x="0" y="1066680"/>
              <a:chExt cx="2867040" cy="3157560"/>
            </a:xfrm>
          </p:grpSpPr>
          <p:sp>
            <p:nvSpPr>
              <p:cNvPr id="15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69FC-7704-45E9-AA1B-FEC4817E3F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ec.org/library/Annual%20Statistical%20Bulletin/interactive/FileZ/worldmapz.htm"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jubileedebtcampaign.org.uk/?lid=2647" TargetMode="External"/><Relationship Id="rId2" Type="http://schemas.openxmlformats.org/officeDocument/2006/relationships/hyperlink" Target="http://www.jubileedebtcampaign.org.uk/?lid=2647" TargetMode="External"/><Relationship Id="rId3" Type="http://schemas.openxmlformats.org/officeDocument/2006/relationships/hyperlink" Target="http://www.jubileedebtcampaign.org.uk/?lid=2647"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kepovertyhistory.org/video" TargetMode="External"/><Relationship Id="rId2" Type="http://schemas.openxmlformats.org/officeDocument/2006/relationships/hyperlink" Target="http://www.makepovertyhistory.org/video" TargetMode="External"/><Relationship Id="rId3" Type="http://schemas.openxmlformats.org/officeDocument/2006/relationships/hyperlink" Target="http://www.makepovertyhistory.org/video" TargetMode="External"/><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3366"/>
              </a:solidFill>
              <a:latin typeface="Arial"/>
            </a:endParaRPr>
          </a:p>
        </p:txBody>
      </p:sp>
      <p:sp>
        <p:nvSpPr>
          <p:cNvPr id="20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4" name="PlaceHolder 1"/>
          <p:cNvSpPr>
            <a:spLocks noGrp="1"/>
          </p:cNvSpPr>
          <p:nvPr>
            <p:ph/>
          </p:nvPr>
        </p:nvSpPr>
        <p:spPr>
          <a:xfrm>
            <a:off x="0" y="2361960"/>
            <a:ext cx="9144000" cy="372420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794160" y="794160"/>
            <a:ext cx="7849440" cy="442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28" name="PlaceHolder 1"/>
          <p:cNvSpPr>
            <a:spLocks noGrp="1"/>
          </p:cNvSpPr>
          <p:nvPr>
            <p:ph/>
          </p:nvPr>
        </p:nvSpPr>
        <p:spPr>
          <a:xfrm>
            <a:off x="838080" y="1413000"/>
            <a:ext cx="7693200" cy="467352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524160" y="524160"/>
            <a:ext cx="809568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opec.org/library/Annual%20Statistical%20Bulletin/interactive/FileZ/worldmapz.htm</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02800" y="803160"/>
            <a:ext cx="7842600" cy="568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02800" y="803160"/>
            <a:ext cx="7842600" cy="568800"/>
          </a:xfrm>
          <a:prstGeom prst="rect">
            <a:avLst/>
          </a:prstGeom>
          <a:noFill/>
          <a:ln w="0">
            <a:noFill/>
          </a:ln>
        </p:spPr>
        <p:txBody>
          <a:bodyPr lIns="90000" rIns="90000" tIns="46800" bIns="46800"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16480" y="816480"/>
            <a:ext cx="7815240" cy="757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t>
            </a:r>
            <a:r>
              <a:rPr b="0" lang="en" sz="2800" spc="-1" strike="noStrike">
                <a:solidFill>
                  <a:srgbClr val="003366"/>
                </a:solidFill>
                <a:latin typeface="Arial"/>
              </a:rPr>
              <a:t>a </a:t>
            </a:r>
            <a:r>
              <a:rPr b="1" lang="en" sz="2800" spc="-1" strike="noStrike">
                <a:solidFill>
                  <a:srgbClr val="003366"/>
                </a:solidFill>
                <a:latin typeface="Arial"/>
              </a:rPr>
              <a:t>rise</a:t>
            </a:r>
            <a:r>
              <a:rPr b="0" lang="en" sz="2800" spc="-1" strike="noStrike">
                <a:solidFill>
                  <a:srgbClr val="003366"/>
                </a:solidFill>
                <a:latin typeface="Arial"/>
              </a:rPr>
              <a:t> in the general level of </a:t>
            </a:r>
            <a:r>
              <a:rPr b="1" lang="en" sz="2800" spc="-1" strike="noStrike">
                <a:solidFill>
                  <a:srgbClr val="003366"/>
                </a:solidFill>
                <a:latin typeface="Arial"/>
              </a:rPr>
              <a:t>prices</a:t>
            </a:r>
            <a:r>
              <a:rPr b="0" lang="en"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006666"/>
                </a:solidFill>
                <a:latin typeface="Arial"/>
              </a:rPr>
              <a:t>Share the Wealth”: </a:t>
            </a:r>
            <a:br>
              <a:rPr sz="3200"/>
            </a:br>
            <a:r>
              <a:rPr b="1" lang="en-US" sz="3200" spc="-1" strike="noStrike">
                <a:solidFill>
                  <a:srgbClr val="006666"/>
                </a:solidFill>
                <a:latin typeface="Arial"/>
              </a:rPr>
              <a:t>Chair demonstration</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 chairs, 10 volunte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ir represents 10% of the world’s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of the world’s population controls only 20% of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 students try to sit in 2 chairs. 2 students get to stretch out on the remaining 8 chai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12160" y="812160"/>
            <a:ext cx="782388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make matters worse, throughout this whole period, as the </a:t>
            </a:r>
            <a:r>
              <a:rPr b="1" lang="en" sz="2800" spc="-1" strike="noStrike">
                <a:solidFill>
                  <a:srgbClr val="003366"/>
                </a:solidFill>
                <a:latin typeface="Arial"/>
              </a:rPr>
              <a:t>economies</a:t>
            </a:r>
            <a:r>
              <a:rPr b="0" lang="en" sz="2800" spc="-1" strike="noStrike">
                <a:solidFill>
                  <a:srgbClr val="003366"/>
                </a:solidFill>
                <a:latin typeface="Arial"/>
              </a:rPr>
              <a:t> of debtor nations </a:t>
            </a:r>
            <a:r>
              <a:rPr b="1" lang="en" sz="2800" spc="-1" strike="noStrike">
                <a:solidFill>
                  <a:srgbClr val="003366"/>
                </a:solidFill>
                <a:latin typeface="Arial"/>
              </a:rPr>
              <a:t>declined</a:t>
            </a:r>
            <a:r>
              <a:rPr b="0" lang="en" sz="2800" spc="-1" strike="noStrike">
                <a:solidFill>
                  <a:srgbClr val="003366"/>
                </a:solidFill>
                <a:latin typeface="Arial"/>
              </a:rPr>
              <a:t>, their </a:t>
            </a:r>
            <a:r>
              <a:rPr b="1" lang="en" sz="2800" spc="-1" strike="noStrike">
                <a:solidFill>
                  <a:srgbClr val="003366"/>
                </a:solidFill>
                <a:latin typeface="Arial"/>
              </a:rPr>
              <a:t>currencies lost value</a:t>
            </a:r>
            <a:r>
              <a:rPr b="0" lang="en"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 sz="2800" spc="-1" strike="noStrike">
                <a:solidFill>
                  <a:srgbClr val="003366"/>
                </a:solidFill>
                <a:latin typeface="Arial"/>
              </a:rPr>
              <a:t>debt load doubled</a:t>
            </a:r>
            <a:r>
              <a:rPr b="0" lang="en"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add to the growing economic mess, the </a:t>
            </a:r>
            <a:r>
              <a:rPr b="1" lang="en" sz="2800" spc="-1" strike="noStrike">
                <a:solidFill>
                  <a:srgbClr val="003366"/>
                </a:solidFill>
                <a:latin typeface="Arial"/>
              </a:rPr>
              <a:t>price of many of the commodities</a:t>
            </a:r>
            <a:r>
              <a:rPr b="0" lang="en" sz="2800" spc="-1" strike="noStrike">
                <a:solidFill>
                  <a:srgbClr val="003366"/>
                </a:solidFill>
                <a:latin typeface="Arial"/>
              </a:rPr>
              <a:t> that the developing countries relied on for export earnings (</a:t>
            </a:r>
            <a:r>
              <a:rPr b="1" lang="en" sz="2800" spc="-1" strike="noStrike">
                <a:solidFill>
                  <a:srgbClr val="003366"/>
                </a:solidFill>
                <a:latin typeface="Arial"/>
              </a:rPr>
              <a:t>agricultural, forestry, and mining products</a:t>
            </a:r>
            <a:r>
              <a:rPr b="0" lang="en" sz="2800" spc="-1" strike="noStrike">
                <a:solidFill>
                  <a:srgbClr val="003366"/>
                </a:solidFill>
                <a:latin typeface="Arial"/>
              </a:rPr>
              <a:t>) </a:t>
            </a:r>
            <a:r>
              <a:rPr b="1" lang="en" sz="2800" spc="-1" strike="noStrike">
                <a:solidFill>
                  <a:srgbClr val="003366"/>
                </a:solidFill>
                <a:latin typeface="Arial"/>
              </a:rPr>
              <a:t>declined</a:t>
            </a:r>
            <a:r>
              <a:rPr b="0" lang="en" sz="2800" spc="-1" strike="noStrike">
                <a:solidFill>
                  <a:srgbClr val="003366"/>
                </a:solidFill>
                <a:latin typeface="Arial"/>
              </a:rPr>
              <a:t> in the 1970s and early 1980s. Hence, these countries had to pay higher prices for their imports (especially oil) with </a:t>
            </a:r>
            <a:r>
              <a:rPr b="1" lang="en" sz="2800" spc="-1" strike="noStrike">
                <a:solidFill>
                  <a:srgbClr val="003366"/>
                </a:solidFill>
                <a:latin typeface="Arial"/>
              </a:rPr>
              <a:t>less income</a:t>
            </a:r>
            <a:r>
              <a:rPr b="0" lang="en"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64080" y="825840"/>
            <a:ext cx="7658640" cy="883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a:t>
            </a:r>
            <a:r>
              <a:rPr b="1" lang="en-US" sz="2400" spc="-1" strike="noStrike" u="sng">
                <a:solidFill>
                  <a:srgbClr val="003366"/>
                </a:solidFill>
                <a:uFillTx/>
                <a:latin typeface="Arial"/>
                <a:hlinkClick r:id="rId1"/>
              </a:rPr>
              <a:t>http://</a:t>
            </a:r>
            <a:r>
              <a:rPr b="1" lang="en-US" sz="2400" spc="-1" strike="noStrike" u="sng">
                <a:solidFill>
                  <a:srgbClr val="003366"/>
                </a:solidFill>
                <a:uFillTx/>
                <a:latin typeface="Arial"/>
                <a:hlinkClick r:id="rId2"/>
              </a:rPr>
              <a:t>www.jubileedebtcampaign.org.uk</a:t>
            </a:r>
            <a:r>
              <a:rPr b="1" lang="en-US" sz="2400" spc="-1" strike="noStrike" u="sng">
                <a:solidFill>
                  <a:srgbClr val="003366"/>
                </a:solidFill>
                <a:uFillTx/>
                <a:latin typeface="Arial"/>
                <a:hlinkClick r:id="rId3"/>
              </a:rPr>
              <a:t>/?lid=2647</a:t>
            </a:r>
            <a:r>
              <a:rPr b="1" lang="en-US" sz="2400" spc="-1" strike="noStrike">
                <a:solidFill>
                  <a:srgbClr val="006666"/>
                </a:solidFill>
                <a:latin typeface="Arial"/>
              </a:rPr>
              <a:t>)</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1</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ecause of corrupt leaders and lax lending restrictions, loans were often not invested in countries to foster development. As a result, it is argued by some that developing countries must be made to repay loans – but should the poor be made to pay for the crimes committed by their lead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Drop the Debt” video</a:t>
            </a:r>
            <a:endParaRPr b="1" lang="en-US" sz="3600" spc="-1" strike="noStrike">
              <a:solidFill>
                <a:srgbClr val="006666"/>
              </a:solidFill>
              <a:latin typeface="Arial"/>
            </a:endParaRPr>
          </a:p>
        </p:txBody>
      </p:sp>
      <p:sp>
        <p:nvSpPr>
          <p:cNvPr id="205" name=""/>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a:t>
            </a:r>
            <a:r>
              <a:rPr b="0" lang="en-US" sz="1800" spc="-1" strike="noStrike" u="sng">
                <a:solidFill>
                  <a:srgbClr val="003366"/>
                </a:solidFill>
                <a:uFillTx/>
                <a:latin typeface="Arial"/>
                <a:hlinkClick r:id="rId2"/>
              </a:rPr>
              <a:t>www.makepovertyhistory.org</a:t>
            </a:r>
            <a:r>
              <a:rPr b="0" lang="en-US" sz="1800" spc="-1" strike="noStrike" u="sng">
                <a:solidFill>
                  <a:srgbClr val="003366"/>
                </a:solidFill>
                <a:uFillTx/>
                <a:latin typeface="Arial"/>
                <a:hlinkClick r:id="rId3"/>
              </a:rPr>
              <a:t>/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2</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al powers took away incalculable riches (both in terms of human life and raw materials) from Africa and Latin America, and incurred a debt they have never repaid. It is argued by some that the two debts cancel each other 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3</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t a single International Monetary Fund or World Bank program has demanded that indebted countries make cuts to military or police expenditures. In fact, some debtor nations have been told to increase spending in this area to be eligible for loans (S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y do you think this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4</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237680" y="812160"/>
            <a:ext cx="666864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7" name="" descr=""/>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09"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nbdoe</cp:lastModifiedBy>
  <dcterms:modified xsi:type="dcterms:W3CDTF">2009-03-26T14:01:19Z</dcterms:modified>
  <cp:revision>19</cp:revision>
  <dc:subject/>
  <dc:title>The International Debt Crisis</dc:title>
</cp:coreProperties>
</file>