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30447-C369-4F9F-8344-00D6D2BD7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ACE47-536E-42AA-ACB2-7387DBE9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2F921-017C-4F4E-A8F4-156216C4C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8DB27-7CF3-4074-B320-4EBB02187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6CCC8-4E7E-49F4-9760-DFE0DB153F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B05AA-5475-47ED-90A4-C02742C116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B7E9F-CC9C-4658-A205-7275E27CC6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57880-396F-436F-9A52-E053A0019C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C6D20-C571-48BF-AB9B-C500CC2B6E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033A8-EA34-4FBA-8C3A-1EFA3056E7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C2AE2-70B7-4975-8043-1D363D5A41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9DD64-D7B7-43E1-93CB-0FE7BF7CB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CD8E9-246F-469A-827B-E417D6F939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268F7-9F3A-4944-B69B-EC6953122A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13D41-C778-4FE7-9A20-9878883495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A61DC2-54F1-4F8B-BFEC-927A39A6ECE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236412-2DC9-4A45-9927-86437FAD21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3AF7B3-180C-41B3-AC8F-71BCE12E5D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15E11-6E26-41CC-94C9-A4A40A325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52A89-089D-43C9-A5AB-53428DE9A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6FB67-A77E-4C1D-A6DD-3BFE0C0A5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D2DAF-ED7F-43BD-8125-D00516A14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437DF-0B92-4CD5-A50D-552EB59E6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0C63F-6259-49C2-BE5B-80C078841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D735B-CA77-462D-9EE8-68A9FFB18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760A6-8005-48A2-8278-370484458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FFC49-730C-4546-89EC-680A1FFFA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6DDBA-2598-4AB5-B8E3-EF48415F8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AFC39-8DF2-4CFE-A4C9-226115656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799947-EA7B-454E-9F4A-4D248CC1C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D9112-50BA-4C15-ACA8-FAF5701DD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6C7A5-219F-40EA-8B12-33CCC93C9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5086B-6168-4B61-9982-95B3DF5EE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01B1-4B91-4452-8037-4C254BFFF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5EEC9-A372-424C-942B-1C7A05589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7BFB3-DAA6-4860-BD9E-A11D02B8C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10B73C-77BD-446C-B0BB-CAE0F267E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D6BC7-2743-434F-8596-D78B510C1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71CCD-2460-426A-81FF-35A471F0E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56BB6-F00B-4F0F-97C4-8A0F26F83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26412-919C-4F09-8583-4A764B0E1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291923-5257-408B-BD47-77D63616E9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E5221E-6013-4B13-B496-DDC1138B19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DC6F-A08F-4007-B87E-47E2AEB1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6030-08F1-478B-9997-47FAC4FB6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34F0-D9E8-47AE-98C2-D8769F54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C8C1-047F-42DC-83B4-321CA9289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06726-6A27-45DA-9596-A43B4D986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8535-562E-4F0F-8CC6-F89A0A3D09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1BB4-B3AA-42A8-A04C-339FD56D6B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 name="Group 4"/>
          <p:cNvGrpSpPr/>
          <p:nvPr/>
        </p:nvGrpSpPr>
        <p:grpSpPr>
          <a:xfrm>
            <a:off x="0" y="0"/>
            <a:ext cx="9144000" cy="546120"/>
            <a:chOff x="0" y="0"/>
            <a:chExt cx="9144000" cy="546120"/>
          </a:xfrm>
        </p:grpSpPr>
        <p:sp>
          <p:nvSpPr>
            <p:cNvPr id="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0" y="0"/>
            <a:ext cx="5867280" cy="6858000"/>
            <a:chOff x="0" y="0"/>
            <a:chExt cx="5867280" cy="6858000"/>
          </a:xfrm>
        </p:grpSpPr>
        <p:sp>
          <p:nvSpPr>
            <p:cNvPr id="10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02" name="Group 5"/>
          <p:cNvGrpSpPr/>
          <p:nvPr/>
        </p:nvGrpSpPr>
        <p:grpSpPr>
          <a:xfrm>
            <a:off x="3632040" y="4889520"/>
            <a:ext cx="4876920" cy="318960"/>
            <a:chOff x="3632040" y="4889520"/>
            <a:chExt cx="4876920" cy="318960"/>
          </a:xfrm>
        </p:grpSpPr>
        <p:sp>
          <p:nvSpPr>
            <p:cNvPr id="10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7ACD-E440-4D08-AE35-D72232ABB37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0"/>
            <a:ext cx="9144000" cy="6858000"/>
            <a:chOff x="0" y="0"/>
            <a:chExt cx="9144000" cy="6858000"/>
          </a:xfrm>
        </p:grpSpPr>
        <p:sp>
          <p:nvSpPr>
            <p:cNvPr id="147"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Group 5"/>
            <p:cNvGrpSpPr/>
            <p:nvPr/>
          </p:nvGrpSpPr>
          <p:grpSpPr>
            <a:xfrm>
              <a:off x="0" y="1066680"/>
              <a:ext cx="2867040" cy="3157560"/>
              <a:chOff x="0" y="1066680"/>
              <a:chExt cx="2867040" cy="3157560"/>
            </a:xfrm>
          </p:grpSpPr>
          <p:sp>
            <p:nvSpPr>
              <p:cNvPr id="150"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7479-30C1-416D-9F62-E0E571EE9B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6666"/>
              </a:solidFill>
              <a:latin typeface="Arial"/>
            </a:endParaRPr>
          </a:p>
        </p:txBody>
      </p:sp>
      <p:sp>
        <p:nvSpPr>
          <p:cNvPr id="202"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So why didn’t the countries do well after the colonizers lef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9" name="PlaceHolder 1"/>
          <p:cNvSpPr>
            <a:spLocks noGrp="1"/>
          </p:cNvSpPr>
          <p:nvPr>
            <p:ph/>
          </p:nvPr>
        </p:nvSpPr>
        <p:spPr>
          <a:xfrm>
            <a:off x="0" y="2361960"/>
            <a:ext cx="9144000" cy="372420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94160" y="794160"/>
            <a:ext cx="7849440" cy="442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33" name="PlaceHolder 1"/>
          <p:cNvSpPr>
            <a:spLocks noGrp="1"/>
          </p:cNvSpPr>
          <p:nvPr>
            <p:ph/>
          </p:nvPr>
        </p:nvSpPr>
        <p:spPr>
          <a:xfrm>
            <a:off x="838080" y="1413000"/>
            <a:ext cx="7693200" cy="4673520"/>
          </a:xfrm>
          <a:prstGeom prst="rect">
            <a:avLst/>
          </a:prstGeom>
          <a:noFill/>
          <a:ln w="0">
            <a:noFill/>
          </a:ln>
        </p:spPr>
        <p:txBody>
          <a:bodyPr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opec.org/library/Annual%20Statistical%20Bulletin/interactive/FileZ/worldmapz.htm</a:t>
            </a:r>
            <a:endParaRPr b="0" lang="en-US" sz="3200" spc="-1" strike="noStrike">
              <a:solidFill>
                <a:srgbClr val="000000"/>
              </a:solidFill>
              <a:latin typeface="Arial"/>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02800" y="803160"/>
            <a:ext cx="7842600" cy="568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02800" y="803160"/>
            <a:ext cx="7842600" cy="568800"/>
          </a:xfrm>
          <a:prstGeom prst="rect">
            <a:avLst/>
          </a:prstGeom>
          <a:noFill/>
          <a:ln w="0">
            <a:noFill/>
          </a:ln>
        </p:spPr>
        <p:txBody>
          <a:bodyPr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4" name="Picture 4" descr="MCj03970740000[1]"/>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16480" y="816480"/>
            <a:ext cx="7815240" cy="757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 </a:t>
            </a:r>
            <a:r>
              <a:rPr b="1" lang="en-US" sz="2800" spc="-1" strike="noStrike">
                <a:solidFill>
                  <a:srgbClr val="003366"/>
                </a:solidFill>
                <a:latin typeface="Arial"/>
              </a:rPr>
              <a:t>rise</a:t>
            </a:r>
            <a:r>
              <a:rPr b="0" lang="en-US" sz="2800" spc="-1" strike="noStrike">
                <a:solidFill>
                  <a:srgbClr val="003366"/>
                </a:solidFill>
                <a:latin typeface="Arial"/>
              </a:rPr>
              <a:t> in the general level of </a:t>
            </a:r>
            <a:r>
              <a:rPr b="1" lang="en-US" sz="2800" spc="-1" strike="noStrike">
                <a:solidFill>
                  <a:srgbClr val="003366"/>
                </a:solidFill>
                <a:latin typeface="Arial"/>
              </a:rPr>
              <a:t>prices</a:t>
            </a:r>
            <a:r>
              <a:rPr b="0" lang="en-US"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812160" y="812160"/>
            <a:ext cx="782388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make matters worse, throughout this whole period, as the </a:t>
            </a:r>
            <a:r>
              <a:rPr b="1" lang="en-US" sz="2800" spc="-1" strike="noStrike">
                <a:solidFill>
                  <a:srgbClr val="003366"/>
                </a:solidFill>
                <a:latin typeface="Arial"/>
              </a:rPr>
              <a:t>economies</a:t>
            </a:r>
            <a:r>
              <a:rPr b="0" lang="en-US" sz="2800" spc="-1" strike="noStrike">
                <a:solidFill>
                  <a:srgbClr val="003366"/>
                </a:solidFill>
                <a:latin typeface="Arial"/>
              </a:rPr>
              <a:t> of debtor nations </a:t>
            </a:r>
            <a:r>
              <a:rPr b="1" lang="en-US" sz="2800" spc="-1" strike="noStrike">
                <a:solidFill>
                  <a:srgbClr val="003366"/>
                </a:solidFill>
                <a:latin typeface="Arial"/>
              </a:rPr>
              <a:t>declined</a:t>
            </a:r>
            <a:r>
              <a:rPr b="0" lang="en-US" sz="2800" spc="-1" strike="noStrike">
                <a:solidFill>
                  <a:srgbClr val="003366"/>
                </a:solidFill>
                <a:latin typeface="Arial"/>
              </a:rPr>
              <a:t>, their </a:t>
            </a:r>
            <a:r>
              <a:rPr b="1" lang="en-US" sz="2800" spc="-1" strike="noStrike">
                <a:solidFill>
                  <a:srgbClr val="003366"/>
                </a:solidFill>
                <a:latin typeface="Arial"/>
              </a:rPr>
              <a:t>currencies lost value</a:t>
            </a:r>
            <a:r>
              <a:rPr b="0" lang="en-US"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US" sz="2800" spc="-1" strike="noStrike">
                <a:solidFill>
                  <a:srgbClr val="003366"/>
                </a:solidFill>
                <a:latin typeface="Arial"/>
              </a:rPr>
              <a:t>debt load doubled</a:t>
            </a:r>
            <a:r>
              <a:rPr b="0" lang="en-US"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to the growing economic mess, the </a:t>
            </a:r>
            <a:r>
              <a:rPr b="1" lang="en-US" sz="2800" spc="-1" strike="noStrike">
                <a:solidFill>
                  <a:srgbClr val="003366"/>
                </a:solidFill>
                <a:latin typeface="Arial"/>
              </a:rPr>
              <a:t>price of many of the commodities</a:t>
            </a:r>
            <a:r>
              <a:rPr b="0" lang="en-US" sz="2800" spc="-1" strike="noStrike">
                <a:solidFill>
                  <a:srgbClr val="003366"/>
                </a:solidFill>
                <a:latin typeface="Arial"/>
              </a:rPr>
              <a:t> that the developing countries relied on for export earnings (</a:t>
            </a:r>
            <a:r>
              <a:rPr b="1" lang="en-US" sz="2800" spc="-1" strike="noStrike">
                <a:solidFill>
                  <a:srgbClr val="003366"/>
                </a:solidFill>
                <a:latin typeface="Arial"/>
              </a:rPr>
              <a:t>agricultural, forestry, and mining products</a:t>
            </a:r>
            <a:r>
              <a:rPr b="0" lang="en-US" sz="2800" spc="-1" strike="noStrike">
                <a:solidFill>
                  <a:srgbClr val="003366"/>
                </a:solidFill>
                <a:latin typeface="Arial"/>
              </a:rPr>
              <a:t>) </a:t>
            </a:r>
            <a:r>
              <a:rPr b="1" lang="en-US" sz="2800" spc="-1" strike="noStrike">
                <a:solidFill>
                  <a:srgbClr val="003366"/>
                </a:solidFill>
                <a:latin typeface="Arial"/>
              </a:rPr>
              <a:t>declined</a:t>
            </a:r>
            <a:r>
              <a:rPr b="0" lang="en-US" sz="2800" spc="-1" strike="noStrike">
                <a:solidFill>
                  <a:srgbClr val="003366"/>
                </a:solidFill>
                <a:latin typeface="Arial"/>
              </a:rPr>
              <a:t> in the 1970s and early 1980s. Hence, these countries had to pay higher prices for their imports (especially oil) with </a:t>
            </a:r>
            <a:r>
              <a:rPr b="1" lang="en-US" sz="2800" spc="-1" strike="noStrike">
                <a:solidFill>
                  <a:srgbClr val="003366"/>
                </a:solidFill>
                <a:latin typeface="Arial"/>
              </a:rPr>
              <a:t>less incom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8480" y="798480"/>
            <a:ext cx="7851240" cy="5058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4080" y="825840"/>
            <a:ext cx="7658640" cy="883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s </a:t>
            </a:r>
            <a:endParaRPr b="1" lang="en-US" sz="36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1) Not a single International Monetary Fund or World Bank program has demanded that indebted countries make cuts to military or police expenditures. In fact, some debtor nations have been told to increase spending in this area to be eligible for loans (SAP). Why do you think this i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2) These countries received the money. The citizens of those nations obviously benefited from this. Why shouldn’t the citizens, workers, business owners and governments today be made to repay these loan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3) We are not considered to be in overwhelming debt. Why should paying the debt in other countries be a concern for us? How does international debt affect us at all?</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 these cartoons help to understand it?</a:t>
            </a:r>
            <a:endParaRPr b="1" lang="en-US" sz="3600" spc="-1" strike="noStrike">
              <a:solidFill>
                <a:srgbClr val="006666"/>
              </a:solidFill>
              <a:latin typeface="Arial"/>
            </a:endParaRPr>
          </a:p>
        </p:txBody>
      </p:sp>
      <p:pic>
        <p:nvPicPr>
          <p:cNvPr id="206" name="image" descr="CAON1FIU"/>
          <p:cNvPicPr/>
          <p:nvPr/>
        </p:nvPicPr>
        <p:blipFill>
          <a:blip r:embed="rId1"/>
          <a:stretch/>
        </p:blipFill>
        <p:spPr>
          <a:xfrm>
            <a:off x="0" y="2357280"/>
            <a:ext cx="4714920" cy="4500720"/>
          </a:xfrm>
          <a:prstGeom prst="rect">
            <a:avLst/>
          </a:prstGeom>
          <a:ln w="6480">
            <a:solidFill>
              <a:srgbClr val="000000"/>
            </a:solidFill>
            <a:miter/>
          </a:ln>
        </p:spPr>
      </p:pic>
      <p:pic>
        <p:nvPicPr>
          <p:cNvPr id="207" name="image" descr="third%20world%20cartoon"/>
          <p:cNvPicPr/>
          <p:nvPr/>
        </p:nvPicPr>
        <p:blipFill>
          <a:blip r:embed="rId2"/>
          <a:stretch/>
        </p:blipFill>
        <p:spPr>
          <a:xfrm>
            <a:off x="4505400" y="2357280"/>
            <a:ext cx="4638600" cy="45007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Debt cancellation is the key right?</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550 billion has been paid in both principal and interest over the last three decades, on $540bn of loans, and yet there is still a $523 billion dollar debt bur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re have been many headline-grabbing promises by world leaders for third world debt cancellation or relief for the poorest and most ravaged countries, and yet those past promises have hardly been kept. For examp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doesn’t actually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debt cancellation is very slow to happ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he amount of money or cancellation promised is actually far less due to fancy spin and adding in money that has already been earmarked for this purpos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6666"/>
                </a:solidFill>
                <a:latin typeface="Arial"/>
              </a:rPr>
              <a:t>How bad can the interest really be?</a:t>
            </a:r>
            <a:endParaRPr b="1" lang="en-US" sz="32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ir debt (Developing World) has been compounding at twice the ‘normal’ rate - over 20 percent per year.  Between 1973 and 1993, their debt went from from $100 billion to $1.5 trillion [only $400 billion of the $1.5 trillion was actually borrowed money. The rest was runaway compound interest]. If Third World debt continues to compound at 20 percent per year, their debt will be over $150 trillion in twenty years and $13 quadrillion in thirty year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 </a:t>
            </a:r>
            <a:r>
              <a:rPr b="0" i="1" lang="en-CA" sz="2400" spc="-1" strike="noStrike">
                <a:solidFill>
                  <a:srgbClr val="003366"/>
                </a:solidFill>
                <a:latin typeface="Arial"/>
              </a:rPr>
              <a:t>J.W. Smith, The World’s Wasted Wealth 2, (Institute for Economic Democracy, 1994), p. 14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6666"/>
                </a:solidFill>
                <a:latin typeface="Arial"/>
              </a:rPr>
              <a:t>But everybody has to pay interest</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The South has already repaid its external debt to the North. Since the onset of the global debt crisis, precipitated in 1979 by a sharp increase in the Federal Reserve’s interest rates by Paul Volcker, the devel-oping/emerging market economies as a whole have paid in current dollars a cumulative $7.673 trillion in external debt service.1 However, during the same period their debt has increased from $618 billion in 1980 to $3.150 trillion in 2006, according to figures published by the International Monetary Fund (IMF)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http://www.jubileedebtcampaign.org.uk/?lid=2647)</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269" name=""/>
          <p:cNvGraphicFramePr/>
          <p:nvPr/>
        </p:nvGraphicFramePr>
        <p:xfrm>
          <a:off x="838080" y="2362320"/>
          <a:ext cx="7693200" cy="3805200"/>
        </p:xfrm>
        <a:graphic>
          <a:graphicData uri="http://schemas.openxmlformats.org/drawingml/2006/table">
            <a:tbl>
              <a:tblPr/>
              <a:tblGrid>
                <a:gridCol w="420840"/>
                <a:gridCol w="1441440"/>
                <a:gridCol w="2663640"/>
                <a:gridCol w="3167280"/>
              </a:tblGrid>
              <a:tr h="23112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Name</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Position</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ea typeface="Arial"/>
                        </a:rPr>
                        <a:t>Funds embezzled (in U.S. $)</a:t>
                      </a:r>
                      <a:endParaRPr b="0" lang="en-US" sz="9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hamed Suhart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Indonesia (1967–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 to 3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Ferdinand Marcos</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72–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to 10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Mobutu Sese Sek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Zaire (1965–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ni Abach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geria (1993–199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to 5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lobodan Milosevic</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Serbia/Yugoslavia (1989–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b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Jean-Claude Duvalier</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Haiti (1971–1986)</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0 to 8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Alberto Fujimor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Peru (1990–200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vlo Lazarenko</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me Minister of Ukraine (1996–1997)</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4 to 2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rnoldo Alem�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Nicaragua (1997–2002)</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0 million</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Joseph Estrada</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esident of the Philippines (1998–2001)</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8 to 80 million </a:t>
                      </a:r>
                      <a:endParaRPr b="0" lang="en-US" sz="9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37680" y="812160"/>
            <a:ext cx="6668640" cy="6944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y this video,“Drop the Debt” to see if it helps make sense</a:t>
            </a:r>
            <a:endParaRPr b="1" lang="en-US" sz="3600" spc="-1" strike="noStrike">
              <a:solidFill>
                <a:srgbClr val="006666"/>
              </a:solidFill>
              <a:latin typeface="Arial"/>
            </a:endParaRPr>
          </a:p>
        </p:txBody>
      </p:sp>
      <p:sp>
        <p:nvSpPr>
          <p:cNvPr id="209" name="Text Box 6"/>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ttp://www.makepovertyhistory.org/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has happened since 2001?</a:t>
            </a:r>
            <a:endParaRPr b="1" lang="en-US" sz="3600" spc="-1" strike="noStrike">
              <a:solidFill>
                <a:srgbClr val="006666"/>
              </a:solidFill>
              <a:latin typeface="Arial"/>
            </a:endParaRPr>
          </a:p>
        </p:txBody>
      </p:sp>
      <p:sp>
        <p:nvSpPr>
          <p:cNvPr id="28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dailymotion.com/video/x9sqbn_drop-the-debt-2009_new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 must make sense when you look at the facts….right?</a:t>
            </a:r>
            <a:endParaRPr b="1" lang="en-US" sz="3600" spc="-1" strike="noStrike">
              <a:solidFill>
                <a:srgbClr val="006666"/>
              </a:solidFill>
              <a:latin typeface="Arial"/>
            </a:endParaRPr>
          </a:p>
        </p:txBody>
      </p:sp>
      <p:sp>
        <p:nvSpPr>
          <p:cNvPr id="211" name="Rectangle 2"/>
          <p:cNvSpPr/>
          <p:nvPr/>
        </p:nvSpPr>
        <p:spPr>
          <a:xfrm>
            <a:off x="857160" y="2571840"/>
            <a:ext cx="7215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r>
              <a:rPr b="0" lang="en-US" sz="1800" spc="-1" strike="noStrike">
                <a:solidFill>
                  <a:srgbClr val="003366"/>
                </a:solidFill>
                <a:latin typeface="Arial"/>
              </a:rPr>
              <a:t>From 1970-2002, Africa received some $540 billion in loans and paid back $550 billion in principal and interest. Yet Africa remains today with a debt stock of $295 bill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a:t>
            </a:r>
            <a:r>
              <a:rPr b="0" lang="en-US" sz="1800" spc="-1" strike="noStrike">
                <a:solidFill>
                  <a:srgbClr val="003366"/>
                </a:solidFill>
                <a:latin typeface="Arial"/>
              </a:rPr>
              <a:t>: Debt relief is conditioned on requirements that countries limit government spending, private basic services, and/or change trade and investment ru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CT: </a:t>
            </a:r>
            <a:br>
              <a:rPr sz="1800"/>
            </a:br>
            <a:r>
              <a:rPr b="0" lang="en-US" sz="1800" spc="-1" strike="noStrike">
                <a:solidFill>
                  <a:srgbClr val="003366"/>
                </a:solidFill>
                <a:latin typeface="Arial"/>
              </a:rPr>
              <a:t>Much of the debt is a result of "bad faith" lending includ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actice of pushing loans on developing nations because banks had too much money and had to lend i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13" name="PlaceHolder 1"/>
          <p:cNvSpPr>
            <a:spLocks noGrp="1"/>
          </p:cNvSpPr>
          <p:nvPr>
            <p:ph/>
          </p:nvPr>
        </p:nvSpPr>
        <p:spPr>
          <a:xfrm>
            <a:off x="838080" y="2362320"/>
            <a:ext cx="76932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ED18</cp:lastModifiedBy>
  <dcterms:modified xsi:type="dcterms:W3CDTF">2012-03-23T18:00:35Z</dcterms:modified>
  <cp:revision>25</cp:revision>
  <dc:subject/>
  <dc:title>The International Debt Crisis</dc:title>
</cp:coreProperties>
</file>