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05E-3344-4CFF-94AD-21AC9CA9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32C-7C70-4BE7-9FC0-69D53DD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710-3D77-405F-BFE5-FD521C30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B3F-7A27-4E83-9B3D-6D7D2014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FB64-DB56-4BAB-B46D-9A21A2F6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346-9421-4AB4-AC73-AB302C6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06C4-5835-4DB0-9DFD-F2CA6794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2F0-2711-4619-AABF-D82B767E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DCB-5D65-48E9-A95B-93729B7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3FA2-C6F2-4494-800C-30EE71F9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7A8-E310-4B39-A1FA-9C443E1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57F-1453-400D-AAA2-BBF12A3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6D2A-7858-4CE7-A6ED-A9CD497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017-0854-46AC-A6D1-46F3FED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A769-6F9D-4F29-A4B0-0EF86925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FDD6-ED63-46A6-808F-AD313AC5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B445-FDCF-424D-B055-C901421D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9FC-8647-488A-8C63-D0F1CDF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4CD-25E0-4B70-A5BB-01DC252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258-EE40-4EA7-94C4-4C527E76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FF3-1AEF-4CB7-ADF9-5AE9C42F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2A3-7718-4392-BAF6-2A4CF3C1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D94-5626-4CF1-8074-895538A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7A5-9181-4A28-AD5B-B8A6A85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E6B-2298-46D9-B9A6-182669A863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20E9-3836-4F15-9D09-5CF00812D0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blog.it/uploads/pacma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pulation Theor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Issues 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vergent ideas about population grow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ere are both optimistic and pessimistic views on population growt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nucopian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gue (Opt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thus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ton (Pessimisti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ucop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aith in the human ability to find technological innovations to carry the increased capacity of the human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25640" cy="2924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468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.J. Bogue believed that society naturally limits population – the population grows only in response to the Earth’s ability to support a larger popul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3024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homas Malthus believed that the population grows in geometric sequence (1,2,4,8,16…), whereas food only grows arithmetically (1,2,3,4,5…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4508640"/>
            <a:ext cx="24480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t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illiam Catton believes that Earth’s carry capacity has exceeded at the expense of environmental dam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ff"/>
                </a:solidFill>
                <a:latin typeface="Verdana"/>
              </a:rPr>
              <a:t>Phantom carrying capacity – unsustainable use of resourc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9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pulation Proje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Verdana"/>
              </a:rPr>
              <a:t>The U.N. has three projections on how quickly the population growth rate declines. The projections are less than a few years ago – this indicates demographic transition occurring faster than anticipa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12:30Z</dcterms:created>
  <dc:creator>Christy Dallaire</dc:creator>
  <dc:description/>
  <dc:language>en-US</dc:language>
  <cp:lastModifiedBy>nbdoe</cp:lastModifiedBy>
  <dcterms:modified xsi:type="dcterms:W3CDTF">2007-11-07T16:00:18Z</dcterms:modified>
  <cp:revision>20</cp:revision>
  <dc:subject/>
  <dc:title>Population Theories</dc:title>
</cp:coreProperties>
</file>