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6877-F8A6-42F0-A1BC-F8EC72051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DD4E-040E-4064-8EEA-9ECCD54A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6986-01A9-4AD5-98D4-C6BC5DB90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0103-EFF8-4FFD-9D5A-7A4CC3E7F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8D7F-F029-407F-BBCA-DA11C117E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E865-656A-4E26-AA16-732A9C67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DAEC-92CD-4E48-9332-E35DD9BB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3B89-0B9D-4ACB-A4FD-4A6D4388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014E-A704-4DD0-83A8-3A4E34FC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D2B5-D3B6-45D8-8992-E4000A4F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4A59-7B68-4FEE-BECA-EEB71893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CBB1-134B-4C8D-B069-624066C5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6FC0-1F7E-4C33-B521-098B46D5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3D3F-D1F9-4C58-A44A-6B93948C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9018-81BA-4849-89F0-164ABDF0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CDA6-96ED-497A-A9FC-4CF491CD1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C39B-20E0-42F2-BE82-7884CF4DE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9F36-D656-428F-B5DD-A684E989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CAC0-9943-4D40-8071-D9EEDAA7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3E5A-9A3B-4317-8D6C-B7DD0ECE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C0C6-6832-4620-9B90-1928F6A2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57F5-D2A2-4B80-9B18-3EC5EEF6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07CD-049A-483C-B6C8-141215E9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7F00-13A9-444F-A040-A5D28647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FC8C-0385-406F-958E-77D8A3734FF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58C0-EAF9-4BAF-AC5B-A0C09956948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amesblog.it/uploads/pacman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opulation Theori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orld Issues 12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ivergent ideas about population growth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There are both optimistic and pessimistic views on population growth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rnucopian (Optimistic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ogue (Optimistic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lthus (Pessimistic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tton (Pessimistic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rnucopia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Faith in the human ability to find technological innovations to carry the increased capacity of the human popula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11280" y="3933720"/>
            <a:ext cx="2825640" cy="29242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292720" y="4149720"/>
            <a:ext cx="24685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ogu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D.J. Bogue believed that society naturally limits population – the population grows only in response to the Earth’s ability to support a larger populat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276720" y="3645000"/>
            <a:ext cx="302400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lthu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Thomas Malthus believed that the population grows in geometric sequence (1,2,4,8,16…), whereas food only grows arithmetically (1,2,3,4,5…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4508640"/>
            <a:ext cx="2448000" cy="19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tt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William Catton believes that Earth’s carry capacity has exceeded at the expense of environmental damag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sult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ffffff"/>
                </a:solidFill>
                <a:latin typeface="Verdana"/>
              </a:rPr>
              <a:t>Phantom carrying capacity – unsustainable use of resource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364000" y="1700280"/>
            <a:ext cx="2897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ere do we go from her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Population Projec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Verdana"/>
              </a:rPr>
              <a:t>The U.N. has three projections on how quickly the population growth rate declines. The projections are less than a few years ago – this indicates demographic transition occurring faster than anticipat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21:12:30Z</dcterms:created>
  <dc:creator>Christy Dallaire</dc:creator>
  <dc:description/>
  <dc:language>en-US</dc:language>
  <cp:lastModifiedBy>nbdoe</cp:lastModifiedBy>
  <dcterms:modified xsi:type="dcterms:W3CDTF">2007-11-07T16:00:18Z</dcterms:modified>
  <cp:revision>20</cp:revision>
  <dc:subject/>
  <dc:title>Population Theories</dc:title>
</cp:coreProperties>
</file>