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4B9-A51E-4598-8BF3-F79B261E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581-6AE9-419A-95A1-64E2D530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6B5-0835-4400-A769-70B288F2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8C6-F907-4725-A01B-C19EB77C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7D72-0C6D-4733-BC09-67026DE6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B019-C0DE-475A-A322-8DDE9F92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2F6D-1D37-49B1-A8F4-288C2B0F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0C84-9A99-4892-A52F-D3397B3C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196E-EDFF-4C4B-A18F-8CA512D7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576C-A7EA-4AB2-ADC9-0F71B99B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089A-FB9C-4170-BAE5-36851D40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522-6FA1-40D5-8243-ECD77E09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C1A2-857C-4EAA-9B46-7C0F005C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0F11-FC34-4EBF-B0B5-DAC46FF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CD86-8423-47D6-AE7F-409ABBB7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1CA8-AED8-4FCF-A272-912A8C00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AF77-CCDC-4D20-846F-3AC5C64A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483-FD3C-4FFB-A13C-13394267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2E9-E8F2-4822-8614-A2FFE8F4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F97-A043-450A-AD3B-610E9787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AEE-67CD-44AB-88A3-34437010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FA3-6AE7-405F-9C1C-5B1FA3CA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158-B7A6-4572-A2F3-2DA75A09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8B3-B10D-43AF-8C14-B5FF64FF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7A6E-9E2B-428E-A6F1-A3F3395D420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FDA7-DE3A-4706-A175-4A64A242678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mesblog.it/uploads/pacma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pulation Theor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ld Issues 1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vergent ideas about population grow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here are both optimistic and pessimistic views on population growt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nucopian (Opt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gue (Opt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thus (Pess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tton (Pess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ucopi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aith in the human ability to find technological innovations to carry the increased capacity of the human popul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825640" cy="2924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2468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g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.J. Bogue believed that society naturally limits population – the population grows only in response to the Earth’s ability to support a larger popul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3645000"/>
            <a:ext cx="3024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lth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homas Malthus believed that the population grows in geometric sequence (1,2,4,8,16…), whereas food only grows arithmetically (1,2,3,4,5…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4508640"/>
            <a:ext cx="244800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tt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illiam Catton believes that Earth’s carry capacity has exceeded at the expense of environmental dam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ul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ff"/>
                </a:solidFill>
                <a:latin typeface="Verdana"/>
              </a:rPr>
              <a:t>Phantom carrying capacity – unsustainable use of resourc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289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opulation Proje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The U.N. has three projections on how quickly the population growth rate declines. The projections are less than a few years ago – this indicates demographic transition occurring faster than anticipa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12:30Z</dcterms:created>
  <dc:creator>Christy Dallaire</dc:creator>
  <dc:description/>
  <dc:language>en-US</dc:language>
  <cp:lastModifiedBy>nbdoe</cp:lastModifiedBy>
  <dcterms:modified xsi:type="dcterms:W3CDTF">2007-11-07T16:00:18Z</dcterms:modified>
  <cp:revision>20</cp:revision>
  <dc:subject/>
  <dc:title>Population Theories</dc:title>
</cp:coreProperties>
</file>