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FCAE-0962-4467-AB90-35B63068E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FD3B-014F-49DF-AECA-645A33C8A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78F2-131E-4A73-BDFE-F50CCFF7A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0A64-C306-4887-A870-6A681BCC2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6A221-892F-40E6-B821-B98CEA5DD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33881-3614-4D49-956B-05890C91B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1A19E-5E54-47A1-A350-7AF087EE5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1CB3E-D9C5-41B7-876C-3A7762B18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0462D-1B25-4CC1-AB4F-6BD0CA713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9A76C-670B-47FC-AB19-B00F01899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34C7B-DA9E-4755-A7D7-698D08069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0D19-A4C3-429D-BCA1-3E89D2E31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19BCD-9296-4D59-938C-6198066DA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41A4B-0ED4-4E6F-90A7-008DCCF82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CBFF7-C382-4644-85A7-018E47C8C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46D44-38A4-4782-BEA8-1406A1DE7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A1E61-109A-48EB-82CC-C0F4AE5A6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4CBC-347C-44E0-9C25-6F95C0ED3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3C1E-FF7B-419C-821C-BAF3DEFF8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6B81-7C75-4B2E-B0D7-E2A90BB17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E052-9B72-43A1-9C27-36A0717EC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E394-37B1-4676-8085-326A2D0EB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2939-302A-4942-8D4C-27803C022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5055-C924-45B1-A3F6-CC2910B26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93658-8819-4DFB-85FE-03B34BB5BAC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6FCC5-4A01-4883-9272-28DD9A51BAD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amesblog.it/uploads/pacman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Population Theorie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orld Issues 12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Divergent ideas about population growth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There are both optimistic and pessimistic views on population growth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ctr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rnucopian (Optimistic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ctr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ogue (Optimistic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ctr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lthus (Pessimistic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ctr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atton (Pessimistic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rnucopia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Faith in the human ability to find technological innovations to carry the increased capacity of the human populatio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11280" y="3933720"/>
            <a:ext cx="2825640" cy="29242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5292720" y="4149720"/>
            <a:ext cx="246852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ogu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D.J. Bogue believed that society naturally limits population – the population grows only in response to the Earth’s ability to support a larger populatio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276720" y="3645000"/>
            <a:ext cx="302400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althu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Thomas Malthus believed that the population grows in geometric sequence (1,2,4,8,16…), whereas food only grows arithmetically (1,2,3,4,5…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4508640"/>
            <a:ext cx="2448000" cy="19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att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William Catton believes that Earth’s carry capacity has exceeded at the expense of environmental damag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sult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ffffff"/>
                </a:solidFill>
                <a:latin typeface="Verdana"/>
              </a:rPr>
              <a:t>Phantom carrying capacity – unsustainable use of resources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364000" y="1700280"/>
            <a:ext cx="28972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ere do we go from here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Population Projectio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Verdana"/>
              </a:rPr>
              <a:t>The U.N. has three projections on how quickly the population growth rate declines. The projections are less than a few years ago – this indicates demographic transition occurring faster than anticipate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3T21:12:30Z</dcterms:created>
  <dc:creator>Christy Dallaire</dc:creator>
  <dc:description/>
  <dc:language>en-US</dc:language>
  <cp:lastModifiedBy>nbdoe</cp:lastModifiedBy>
  <dcterms:modified xsi:type="dcterms:W3CDTF">2007-11-07T16:00:18Z</dcterms:modified>
  <cp:revision>20</cp:revision>
  <dc:subject/>
  <dc:title>Population Theories</dc:title>
</cp:coreProperties>
</file>