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9B32-AA79-4D76-B755-BB131F15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FD62-14D1-4C1E-8D8C-48EE2710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A5FE-39A6-404F-BA05-173948F41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2CDB-9A88-4317-8A90-7A871E3B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D10D-0CEC-4F39-88B3-E777D8BB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ABFA-1BB2-413A-ABF5-A1F4F1D3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56AF-0C5C-43FE-A5AA-8269DA66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57F3-4957-43B3-8843-88E36564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5039-DA2C-41AE-9BCC-8582D4DE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D260-E1ED-4D2B-A487-C8120C34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915F-FE92-4EEA-8E64-4CF03664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43A4-9664-4D29-99E9-C15A9F6C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37F9-F232-4F40-86AC-84894FC5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2420-15A3-48B9-9AE7-6CC4DABE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2C29-B0E1-430C-98E5-65097C34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584B-F51B-45E4-BCCA-502D8C53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9869-E475-4EFB-8357-9D5FBF73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48B2-0A24-4C3F-94B1-5CC2CB73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297D-D67F-4778-8BE5-3C763AB7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542F-2C6B-47D5-B2A9-77DF2A02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9C2D-1A46-44D4-A319-6F3EF169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DCD8-6363-4E71-B697-27EF34B6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25BE-8D08-4F54-9C62-B7A2B27B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EC10-57BA-4E1C-A13D-0F92F8ED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3342-DE99-4FDE-A5BB-077A8DCE23C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6E52-4FCE-4638-AA02-16DAD61EA79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mesblog.it/uploads/pacman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opulation Theori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rld Issues 12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vergent ideas about population growt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here are both optimistic and pessimistic views on population growth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rnucopian (Optimistic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ogue (Optimistic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lthus (Pessimistic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tton (Pessimistic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rnucopia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Faith in the human ability to find technological innovations to carry the increased capacity of the human popula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11280" y="3933720"/>
            <a:ext cx="2825640" cy="2924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24685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ogu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D.J. Bogue believed that society naturally limits population – the population grows only in response to the Earth’s ability to support a larger popula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76720" y="3645000"/>
            <a:ext cx="30240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lthu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homas Malthus believed that the population grows in geometric sequence (1,2,4,8,16…), whereas food only grows arithmetically (1,2,3,4,5…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4508640"/>
            <a:ext cx="2448000" cy="19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tt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William Catton believes that Earth’s carry capacity has exceeded at the expense of environmental damag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ult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ffffff"/>
                </a:solidFill>
                <a:latin typeface="Verdana"/>
              </a:rPr>
              <a:t>Phantom carrying capacity – unsustainable use of resource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364000" y="1700280"/>
            <a:ext cx="2897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ere do we go from her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Population Projec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Verdana"/>
              </a:rPr>
              <a:t>The U.N. has three projections on how quickly the population growth rate declines. The projections are less than a few years ago – this indicates demographic transition occurring faster than anticipat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21:12:30Z</dcterms:created>
  <dc:creator>Christy Dallaire</dc:creator>
  <dc:description/>
  <dc:language>en-US</dc:language>
  <cp:lastModifiedBy>nbdoe</cp:lastModifiedBy>
  <dcterms:modified xsi:type="dcterms:W3CDTF">2007-11-07T16:00:18Z</dcterms:modified>
  <cp:revision>20</cp:revision>
  <dc:subject/>
  <dc:title>Population Theories</dc:title>
</cp:coreProperties>
</file>