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4E928-F01F-45E5-B4FD-B7EC1D02A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C5BC3-1E64-4E73-8753-6907A42F0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7666B-2DAF-4773-8FF5-D37259CB8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94589-EF62-476A-89D5-C4A4874BB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ABFF19-9D51-4BB2-9879-4BBC2D208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7E156-3969-4D97-86B2-21A10ECC8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3165D-13D2-46F2-AEAE-B5BBA999D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53610-E402-494A-AC9B-C2A726C76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EC375-EE49-4FA0-A0DE-95F6B500A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688E3-4DD0-40DC-8A40-1F5E2D58A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CA224-3D55-4075-8A90-B16427663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7F6CB-95F3-40EF-95BA-E88262F50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21092-545D-408B-82A7-3B4966459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54808-45D7-4C0B-AABB-FEC8A2FD8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8CDCF-367F-4698-A137-2557DC72A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EC378-F6D5-4762-95AE-6D73FF6D73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4D35B-D41E-4C89-B8B4-CD11B4DB7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8D0D7-6802-4AAF-9216-9FF0DAA3A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F6693-4BCF-45FC-BB12-7DAC3FBCD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32B53-1F1B-407F-9895-442A87ACE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47640-AD22-4297-BFA4-E4A4F3F77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B31E7-A11D-40DF-880E-B2F65E3DE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46252-8906-4C5B-9661-D972182F3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F5155-800D-43BF-906A-6E20A5FA1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9038-0E8A-4AD9-A293-E085DF27FAFD}"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DA5BD-9BD8-4075-B710-3734FD22C7A1}"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mographic Transition</a:t>
            </a:r>
            <a:endParaRPr b="0" lang="en-US" sz="4400" spc="-1" strike="noStrike">
              <a:solidFill>
                <a:srgbClr val="ffffcc"/>
              </a:solidFill>
              <a:latin typeface="Tahoma"/>
            </a:endParaRPr>
          </a:p>
        </p:txBody>
      </p:sp>
      <p:sp>
        <p:nvSpPr>
          <p:cNvPr id="8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he phenomenon of population changes in a country over time.</a:t>
            </a:r>
            <a:endParaRPr b="0" lang="en-US" sz="2400" spc="-1" strike="noStrike">
              <a:solidFill>
                <a:srgbClr val="ffffff"/>
              </a:solidFill>
              <a:latin typeface="Tahoma"/>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4 Stages:</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transition</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rly transition</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transition</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 transition</a:t>
            </a:r>
            <a:endParaRPr b="0" lang="en-US" sz="2400" spc="-1" strike="noStrike">
              <a:solidFill>
                <a:srgbClr val="ffffff"/>
              </a:solidFill>
              <a:latin typeface="Tahoma"/>
            </a:endParaRPr>
          </a:p>
        </p:txBody>
      </p:sp>
      <p:pic>
        <p:nvPicPr>
          <p:cNvPr id="89" name="" descr=""/>
          <p:cNvPicPr/>
          <p:nvPr/>
        </p:nvPicPr>
        <p:blipFill>
          <a:blip r:embed="rId1"/>
          <a:stretch/>
        </p:blipFill>
        <p:spPr>
          <a:xfrm>
            <a:off x="4805280" y="2241720"/>
            <a:ext cx="3724200" cy="321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Late transition</a:t>
            </a:r>
            <a:br>
              <a:rPr sz="3600"/>
            </a:br>
            <a:r>
              <a:rPr b="0" lang="en-US" sz="2000" spc="-1" strike="noStrike">
                <a:solidFill>
                  <a:srgbClr val="ffffcc"/>
                </a:solidFill>
                <a:latin typeface="Tahoma"/>
              </a:rPr>
              <a:t>(stage Three)</a:t>
            </a:r>
            <a:endParaRPr b="0" lang="en-US" sz="20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crease in birth and death rat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Population decreas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 descr=""/>
          <p:cNvPicPr/>
          <p:nvPr/>
        </p:nvPicPr>
        <p:blipFill>
          <a:blip r:embed="rId1"/>
          <a:stretch/>
        </p:blipFill>
        <p:spPr>
          <a:xfrm>
            <a:off x="2195640" y="3284640"/>
            <a:ext cx="5724360" cy="328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ate transition…</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sh the population into stability through declining birth rate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s in death rates are primarily due to the change in a popul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ut in the end…</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owards the end of stage three, fertility rate falls to replacement levels—the level of fertility where women (on average) are only having enough children to replace themselves and their partner in the pop.</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lthough it may fall into replacement levels, population growth continues in relation of population momentum—the tendency for pop. Growth to maintain beyond the time that replacement fertility achieves because of a relatively high focus on people in the childbearing years.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 </a:t>
            </a:r>
            <a:br>
              <a:rPr sz="4000"/>
            </a:b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8" name="" descr=""/>
          <p:cNvPicPr/>
          <p:nvPr/>
        </p:nvPicPr>
        <p:blipFill>
          <a:blip r:embed="rId1"/>
          <a:stretch/>
        </p:blipFill>
        <p:spPr>
          <a:xfrm>
            <a:off x="304920" y="0"/>
            <a:ext cx="8610480" cy="662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ost-transition</a:t>
            </a:r>
            <a:br>
              <a:rPr sz="3600"/>
            </a:br>
            <a:r>
              <a:rPr b="0" lang="en-US" sz="2000" spc="-1" strike="noStrike">
                <a:solidFill>
                  <a:srgbClr val="ffffcc"/>
                </a:solidFill>
                <a:latin typeface="Tahoma"/>
              </a:rPr>
              <a:t>(stage four)</a:t>
            </a:r>
            <a:endParaRPr b="0" lang="en-US" sz="2000" spc="-1" strike="noStrike">
              <a:solidFill>
                <a:srgbClr val="ffffcc"/>
              </a:solidFill>
              <a:latin typeface="Tahoma"/>
            </a:endParaRPr>
          </a:p>
        </p:txBody>
      </p:sp>
      <p:sp>
        <p:nvSpPr>
          <p:cNvPr id="120"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he birth rate is relatively equal to the death rate</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general stabilization of the population</a:t>
            </a:r>
            <a:endParaRPr b="0" lang="en-US" sz="2400" spc="-1" strike="noStrike">
              <a:solidFill>
                <a:srgbClr val="ffffff"/>
              </a:solidFill>
              <a:latin typeface="Tahoma"/>
            </a:endParaRPr>
          </a:p>
        </p:txBody>
      </p:sp>
      <p:pic>
        <p:nvPicPr>
          <p:cNvPr id="121" name="" descr=""/>
          <p:cNvPicPr/>
          <p:nvPr/>
        </p:nvPicPr>
        <p:blipFill>
          <a:blip r:embed="rId1"/>
          <a:stretch/>
        </p:blipFill>
        <p:spPr>
          <a:xfrm>
            <a:off x="1752480" y="1828800"/>
            <a:ext cx="6343920" cy="359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finition</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ge 4/ Post Transition-</a:t>
            </a:r>
            <a:r>
              <a:rPr b="0" lang="en" sz="3200" spc="-1" strike="noStrike">
                <a:solidFill>
                  <a:srgbClr val="ffffff"/>
                </a:solidFill>
                <a:latin typeface="Tahoma"/>
              </a:rPr>
              <a:t>when populations reached similarly low birth and death rates so that populations would become essentially stabl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lanation</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 transition is basically when there is a greater percentage of deaths than birth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 1000 people die in one month and 999 people are born that same mon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ecline in birth rates…</a:t>
            </a:r>
            <a:endParaRPr b="0" lang="en-US" sz="44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owards the end of the 19</a:t>
            </a:r>
            <a:r>
              <a:rPr b="0" lang="en-US" sz="2000" spc="-1" strike="noStrike" baseline="30000">
                <a:solidFill>
                  <a:srgbClr val="ffffff"/>
                </a:solidFill>
                <a:latin typeface="Tahoma"/>
              </a:rPr>
              <a:t>th</a:t>
            </a:r>
            <a:r>
              <a:rPr b="0" lang="en-US" sz="2000" spc="-1" strike="noStrike">
                <a:solidFill>
                  <a:srgbClr val="ffffff"/>
                </a:solidFill>
                <a:latin typeface="Tahoma"/>
              </a:rPr>
              <a:t> century, developing countries showed a decline in birth rates. Several factors a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ild death encouraged parents that future children may not survive; parents may cease having children due to thi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d urbanization may change traditional values. The cost of having children while living in urban areas are exceedingly high.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omen become more educated, and joining the workforce may keep them busy.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rovements in contraceptive technolog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The role of women in societ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Changes in traditional cultural role models (relig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o Is This Happening To?</a:t>
            </a:r>
            <a:endParaRPr b="0" lang="en-US" sz="44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Countries that are at this stage (Total Fertility Rate of less than 2.5 in 1997) include: United States, Canada, Australia, New Zealand, and most of Europe, Swede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China and some South-Eastern Asian nations are experiencing a ‘Birth Dearth’ but due to a hyper-expanded original population, they will be much later evolving to a post transitional society because of their population method.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weden</a:t>
            </a:r>
            <a:endParaRPr b="0" lang="en-US" sz="4400" spc="-1" strike="noStrike">
              <a:solidFill>
                <a:srgbClr val="ffffcc"/>
              </a:solidFill>
              <a:latin typeface="Tahoma"/>
            </a:endParaRPr>
          </a:p>
        </p:txBody>
      </p:sp>
      <p:pic>
        <p:nvPicPr>
          <p:cNvPr id="131" name="" descr=""/>
          <p:cNvPicPr/>
          <p:nvPr/>
        </p:nvPicPr>
        <p:blipFill>
          <a:blip r:embed="rId1"/>
          <a:stretch/>
        </p:blipFill>
        <p:spPr>
          <a:xfrm>
            <a:off x="685800" y="1295280"/>
            <a:ext cx="8058240" cy="518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pic>
        <p:nvPicPr>
          <p:cNvPr id="91" name="" descr=""/>
          <p:cNvPicPr/>
          <p:nvPr/>
        </p:nvPicPr>
        <p:blipFill>
          <a:blip r:embed="rId1"/>
          <a:stretch/>
        </p:blipFill>
        <p:spPr>
          <a:xfrm>
            <a:off x="533520" y="533520"/>
            <a:ext cx="8153280" cy="6053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sual Aid</a:t>
            </a:r>
            <a:endParaRPr b="0" lang="en-US" sz="4400" spc="-1" strike="noStrike">
              <a:solidFill>
                <a:srgbClr val="ffffcc"/>
              </a:solidFill>
              <a:latin typeface="Tahoma"/>
            </a:endParaRPr>
          </a:p>
        </p:txBody>
      </p:sp>
      <p:pic>
        <p:nvPicPr>
          <p:cNvPr id="133" name="" descr=""/>
          <p:cNvPicPr/>
          <p:nvPr/>
        </p:nvPicPr>
        <p:blipFill>
          <a:blip r:embed="rId1"/>
          <a:stretch/>
        </p:blipFill>
        <p:spPr>
          <a:xfrm>
            <a:off x="609480" y="1523880"/>
            <a:ext cx="7867800" cy="4721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Possible Effects of the Birth Dearth</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ulation should be 2.1 to replace itself. It is not, why?</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mily structures</a:t>
            </a:r>
            <a:endParaRPr b="0" lang="en-US" sz="24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re single parents</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wer children per family</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ss family orientation</a:t>
            </a:r>
            <a:endParaRPr b="0" lang="en-US" sz="20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le of Women</a:t>
            </a:r>
            <a:endParaRPr b="0" lang="en-US" sz="24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rth control</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ork</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riage, church, morality, equality</a:t>
            </a:r>
            <a:endParaRPr b="0" lang="en-US" sz="2000" spc="-1" strike="noStrike">
              <a:solidFill>
                <a:srgbClr val="ffffff"/>
              </a:solidFill>
              <a:latin typeface="Tahom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problems do you foresee?</a:t>
            </a:r>
            <a:endParaRPr b="0" lang="en-US" sz="2800" spc="-1" strike="noStrike">
              <a:solidFill>
                <a:srgbClr val="ffffff"/>
              </a:solidFill>
              <a:latin typeface="Tahoma"/>
            </a:endParaRPr>
          </a:p>
          <a:p>
            <a:pPr lvl="2" marL="1131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Problems Around Us</a:t>
            </a:r>
            <a:endParaRPr b="0" lang="en-US" sz="44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mily structures</a:t>
            </a:r>
            <a:r>
              <a:rPr b="0" lang="en-US" sz="2400" spc="-1" strike="noStrike">
                <a:solidFill>
                  <a:srgbClr val="ffffff"/>
                </a:solidFill>
                <a:latin typeface="Tahoma"/>
              </a:rPr>
              <a:t>	</a:t>
            </a:r>
            <a:endParaRPr b="0" lang="en-US" sz="24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e vehicle</a:t>
            </a:r>
            <a:r>
              <a:rPr b="0" lang="en-US" sz="2000" spc="-1" strike="noStrike">
                <a:solidFill>
                  <a:srgbClr val="ffffff"/>
                </a:solidFill>
                <a:latin typeface="Tahoma"/>
              </a:rPr>
              <a:t>	</a:t>
            </a:r>
            <a:r>
              <a:rPr b="0" lang="en-US" sz="2000" spc="-1" strike="noStrike">
                <a:solidFill>
                  <a:srgbClr val="ffffff"/>
                </a:solidFill>
                <a:latin typeface="Tahoma"/>
              </a:rPr>
              <a:t>(car industry changes)</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artment living (housing devalues, construction companies fail)</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rchases (stores downsize, disappear)</a:t>
            </a:r>
            <a:endParaRPr b="0" lang="en-US" sz="20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ing Population</a:t>
            </a:r>
            <a:endParaRPr b="0" lang="en-US" sz="24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ssed healthcare (reforms)</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wer cars ( change in transportation)</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vernment representation (more older politicians-focal change)</a:t>
            </a:r>
            <a:endParaRPr b="0" lang="en-US" sz="20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force</a:t>
            </a:r>
            <a:endParaRPr b="0" lang="en-US" sz="24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nger, less experience (changes to education)</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b shopping (salaries rise therefore prices rise)</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What els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Financial problems</a:t>
            </a: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all the shifts will cause a devaluing of assets held by the elderly (inflation and interest rates). Financial institutions will be forced to pay out large payments for interest. Financial markets will be cash starved ( older people will protect limited asse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What do you see in the end?</a:t>
            </a:r>
            <a:endParaRPr b="0" lang="en-US" sz="44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or elderly (largest portion of your popul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ved financial marke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Pre-transition</a:t>
            </a:r>
            <a:br>
              <a:rPr sz="3200"/>
            </a:br>
            <a:r>
              <a:rPr b="0" lang="en-US" sz="2000" spc="-1" strike="noStrike">
                <a:solidFill>
                  <a:srgbClr val="ffffcc"/>
                </a:solidFill>
                <a:latin typeface="Tahoma"/>
              </a:rPr>
              <a:t>Stage One</a:t>
            </a:r>
            <a:endParaRPr b="0" lang="en-US" sz="2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Increase in birth and death rat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little/no population increase</a:t>
            </a:r>
            <a:endParaRPr b="0" lang="en-US" sz="3200" spc="-1" strike="noStrike">
              <a:solidFill>
                <a:srgbClr val="ffffff"/>
              </a:solidFill>
              <a:latin typeface="Tahoma"/>
            </a:endParaRPr>
          </a:p>
        </p:txBody>
      </p:sp>
      <p:pic>
        <p:nvPicPr>
          <p:cNvPr id="94" name="" descr=""/>
          <p:cNvPicPr/>
          <p:nvPr/>
        </p:nvPicPr>
        <p:blipFill>
          <a:blip r:embed="rId1"/>
          <a:stretch/>
        </p:blipFill>
        <p:spPr>
          <a:xfrm>
            <a:off x="1547640" y="2924280"/>
            <a:ext cx="5972400" cy="369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pre-transition?</a:t>
            </a: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transition stage is considered to be the most primitive stage of the demographic transition. About 1/3 of the world’s countries were in between the pre-transition and early transition stages.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transition stage is when families in one region have much shorter life expectancy and large families.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verage age of a senior was between 45-50</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was a very high birth rate and extreme infant mortality.</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few or no countries that are in the Pre-Transition stage of population developmen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Countries such as Chad, Mali, (sub-Saharan) were the most recent countries to evolve from the Pre-Transition stage</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All countries and areas of the world were once Pre-transitional.</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Some isolated island populations and remotely located indigenous cultures may still have many of the pre-transitional characteristics due to their lack of exposure to outside cultur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arly transition</a:t>
            </a:r>
            <a:br>
              <a:rPr sz="3200"/>
            </a:br>
            <a:r>
              <a:rPr b="0" lang="en-US" sz="1800" spc="-1" strike="noStrike">
                <a:solidFill>
                  <a:srgbClr val="ffffcc"/>
                </a:solidFill>
                <a:latin typeface="Tahoma"/>
              </a:rPr>
              <a:t>Stage Two</a:t>
            </a:r>
            <a:endParaRPr b="0" lang="en-US" sz="18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crease in death rate and increase in birth rat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Population increas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1"/>
          <a:stretch/>
        </p:blipFill>
        <p:spPr>
          <a:xfrm>
            <a:off x="1979640" y="3357720"/>
            <a:ext cx="5184720" cy="327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arly Transition</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third, fourth, and fifth world countries are still at this stage. In early transition you will see a very big drop in the death rate. The birth rates are also remaining high. As a result of this an increase in population occurred. This stage is when Earth’s population rose from one billion (1850) to six billion (2000).</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population increase was mainly caused by: The improvements in public health, water quality, improvements in sewage systems all caused by the industrial revolutio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one-third of the world’s countries have completed this transition. However, about another third of all countries, plus the northern states of India — in total, about 1.5 billion people — remain in the transition’s early or middle phases. Most are in sub-Saharan Africa and the Middle East. Others are scattered across southern Asia and Latin Ameri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 of Early Transition</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graph shows the population in Angola for the year 2005. It is between pre and early transition. The birth rate is still very high but many children are dying at a young age. Also the graph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nstrates tha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are no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ving to be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y old</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 descr="Image:Angola population pyramid 2005.png"/>
          <p:cNvPicPr/>
          <p:nvPr/>
        </p:nvPicPr>
        <p:blipFill>
          <a:blip r:embed="rId1"/>
          <a:stretch/>
        </p:blipFill>
        <p:spPr>
          <a:xfrm>
            <a:off x="3581280" y="3886200"/>
            <a:ext cx="556272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6:39:02Z</dcterms:created>
  <dc:creator>alexandra.belyea</dc:creator>
  <dc:description/>
  <dc:language>en-US</dc:language>
  <cp:lastModifiedBy>nbdoe</cp:lastModifiedBy>
  <dcterms:modified xsi:type="dcterms:W3CDTF">2007-11-19T21:24:17Z</dcterms:modified>
  <cp:revision>16</cp:revision>
  <dc:subject/>
  <dc:title>Late demographic transition</dc:title>
</cp:coreProperties>
</file>