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65C01-292A-4C3B-939F-C3E4E6965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50FC9-BDB0-4A69-A582-F6AC06D31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804F5-FA9E-4367-81F0-7A5B5045A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6186E-51FC-4FEB-88C6-4A803CF94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41F79-D4CC-4048-8E6C-72DE896AC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BCF6B-65A5-4A5C-B116-92E1510C1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11FB7-8C32-424C-AC31-3DFCA649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D41FD-A355-481A-A9E3-CE70DF892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4738A-3BA9-4011-A507-626D6A2B0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99E3A-9CBA-420E-956B-F6ED09B53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E35B9-83EF-4BC1-98AA-2B4034541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EA2B6-F07A-4FDD-BB7B-84A023A6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C4555-3FA4-4D4A-B97E-C8D50F61D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71821-8466-4F75-8D99-95781071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CF969-DC7D-4CC6-BB3F-695A78E3A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6A021-9F22-47BB-8E9F-2BAA9E8A2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2F2E5-0203-47C7-A881-474CF7E65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181FD-8B1B-4479-905F-ED03B3B0C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627AB-7243-4527-ADB5-BB254B4D0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B53D-D04F-439A-8874-B3A8BE0F5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C980D-9FEA-44F8-8699-28137519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1501-9A63-4AB4-ABF6-12414FB9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D1BE5-92AC-4515-89F2-2840570D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101B-F99F-4E3F-B07B-FB6C77BCD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88FA-B9A3-4A62-ACED-AA24ADC84D7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F27A-3C23-44BD-B5BF-40E35AFE680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itedstreaming.com/search/assetDetail.cfm?guidAssetID=2E7A6F81-F6C9-4B9B-945F-E3705C565140" TargetMode="External"/><Relationship Id="rId2" Type="http://schemas.openxmlformats.org/officeDocument/2006/relationships/hyperlink" Target="http://www.unitedstreaming.com/search/assetDetail.cfm?guidAssetID=2E7A6F81-F6C9-4B9B-945F-E3705C565140" TargetMode="External"/><Relationship Id="rId3" Type="http://schemas.openxmlformats.org/officeDocument/2006/relationships/hyperlink" Target="file:///Culture%20questions%20and%20stuff.pd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Culture</a:t>
            </a:r>
            <a:endParaRPr b="0" lang="en-US" sz="2400" spc="-1" strike="noStrike">
              <a:solidFill>
                <a:srgbClr val="333399"/>
              </a:solidFill>
              <a:latin typeface="Tahoma"/>
            </a:endParaRPr>
          </a:p>
        </p:txBody>
      </p:sp>
      <p:sp>
        <p:nvSpPr>
          <p:cNvPr id="10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 culture is learned behaviour acquired by individuals as members of a social group and is a total way of life for that group. It is passed down generations through education, practice, and medi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terdependence is an on-going phenomenon that has increased in the last century. It involves the mixing of cultures as well as the establishment of cultural groups in previously foreign areas. Factors leading to cultural interdependence are history, media, technology, availability of natural resources and even natural disaster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dependence can also be seen when previously isolated cultures mutate due to influence from outside cultures. This causes cultures to change and or split into orthodox and unorthodox grouping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unitedstreaming.com</a:t>
            </a:r>
            <a:r>
              <a:rPr b="0" lang="en-US" sz="1800" spc="-1" strike="noStrike" u="sng">
                <a:solidFill>
                  <a:srgbClr val="ff0000"/>
                </a:solidFill>
                <a:uFillTx/>
                <a:latin typeface="Tahoma"/>
                <a:hlinkClick r:id="rId2"/>
              </a:rPr>
              <a:t> - Full Video Details</a:t>
            </a:r>
            <a:r>
              <a:rPr b="0" lang="en-US" sz="1800" spc="-1" strike="noStrike">
                <a:solidFill>
                  <a:srgbClr val="000000"/>
                </a:solidFill>
                <a:latin typeface="Tahoma"/>
              </a:rPr>
              <a:t> (search videos and çulture’—you will get three  videos of ‘How beliefs and values affect cultu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How to Study Cultures: How Beliefs and Values Define a Culture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rPr>
              <a:t>Do questions</a:t>
            </a:r>
            <a:endParaRPr b="0" lang="en-US" sz="18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24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What is Culture?</a:t>
            </a:r>
            <a:endParaRPr b="0" lang="en-US" sz="2000" spc="-1" strike="noStrike">
              <a:solidFill>
                <a:srgbClr val="333399"/>
              </a:solidFill>
              <a:latin typeface="Tahoma"/>
            </a:endParaRPr>
          </a:p>
        </p:txBody>
      </p:sp>
      <p:sp>
        <p:nvSpPr>
          <p:cNvPr id="102"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ahoma"/>
              </a:rPr>
              <a:t>Elements of Culture:</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elief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Geography and natural resourc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Social organization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conomic activities and history</a:t>
            </a:r>
            <a:endParaRPr b="0" lang="en-US" sz="32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Beliefs</a:t>
            </a:r>
            <a:r>
              <a:rPr b="0" lang="en-US" sz="2400" spc="-1" strike="noStrike" u="sng">
                <a:solidFill>
                  <a:srgbClr val="333399"/>
                </a:solidFill>
                <a:uFillTx/>
                <a:latin typeface="Tahoma"/>
              </a:rPr>
              <a:t>	</a:t>
            </a:r>
            <a:endParaRPr b="0" lang="en-US" sz="2400" spc="-1" strike="noStrike">
              <a:solidFill>
                <a:srgbClr val="333399"/>
              </a:solidFill>
              <a:latin typeface="Tahoma"/>
            </a:endParaRPr>
          </a:p>
        </p:txBody>
      </p:sp>
      <p:sp>
        <p:nvSpPr>
          <p:cNvPr id="104" name="PlaceHolder 2"/>
          <p:cNvSpPr>
            <a:spLocks noGrp="1"/>
          </p:cNvSpPr>
          <p:nvPr>
            <p:ph/>
          </p:nvPr>
        </p:nvSpPr>
        <p:spPr>
          <a:xfrm>
            <a:off x="1182600" y="837720"/>
            <a:ext cx="7772400" cy="529452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Law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oral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radi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ligion</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ustom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Values</a:t>
            </a:r>
            <a:endParaRPr b="0" lang="en-US" sz="2400" spc="-1" strike="noStrike">
              <a:solidFill>
                <a:srgbClr val="333399"/>
              </a:solidFill>
              <a:latin typeface="Tahoma"/>
            </a:endParaRPr>
          </a:p>
        </p:txBody>
      </p:sp>
      <p:sp>
        <p:nvSpPr>
          <p:cNvPr id="106"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aterial object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Social rela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rt and Abiliti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duc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Geography (natural resources)</a:t>
            </a:r>
            <a:endParaRPr b="0" lang="en-US" sz="2400" spc="-1" strike="noStrike">
              <a:solidFill>
                <a:srgbClr val="333399"/>
              </a:solidFill>
              <a:latin typeface="Tahoma"/>
            </a:endParaRPr>
          </a:p>
        </p:txBody>
      </p:sp>
      <p:sp>
        <p:nvSpPr>
          <p:cNvPr id="108"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opograph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ood</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dustry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limate</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Social Organizations</a:t>
            </a:r>
            <a:endParaRPr b="0" lang="en-US" sz="2400" spc="-1" strike="noStrike">
              <a:solidFill>
                <a:srgbClr val="333399"/>
              </a:solidFill>
              <a:latin typeface="Tahoma"/>
            </a:endParaRPr>
          </a:p>
        </p:txBody>
      </p:sp>
      <p:sp>
        <p:nvSpPr>
          <p:cNvPr id="11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amil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Hierarchy</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astes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Gender Role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Economic Activities and History</a:t>
            </a:r>
            <a:endParaRPr b="0" lang="en-US" sz="2400" spc="-1" strike="noStrike">
              <a:solidFill>
                <a:srgbClr val="333399"/>
              </a:solidFill>
              <a:latin typeface="Tahoma"/>
            </a:endParaRPr>
          </a:p>
        </p:txBody>
      </p:sp>
      <p:sp>
        <p:nvSpPr>
          <p:cNvPr id="112"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ype of industr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sourc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frastructure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t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9:52:33Z</dcterms:created>
  <dc:creator>nbdoe</dc:creator>
  <dc:description/>
  <dc:language>en-US</dc:language>
  <cp:lastModifiedBy>nbdoe</cp:lastModifiedBy>
  <dcterms:modified xsi:type="dcterms:W3CDTF">2006-09-20T18:45:20Z</dcterms:modified>
  <cp:revision>3</cp:revision>
  <dc:subject/>
  <dc:title>What is Culture?</dc:title>
</cp:coreProperties>
</file>