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0DF-9D2C-46DE-AE81-D397441D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824-2A78-44B9-A2F2-1CA778B1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803-C780-4AFD-B0BB-803F0580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80F-9F60-4C5F-9604-02FD5E09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843E-46E7-4AED-B27C-1989A85B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678-BA62-470C-B95B-2900D880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D0E7-2779-49C2-ADBA-2BDB6134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3F9F-CD59-4A6D-94D9-C333088C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6825-CB21-4E01-9BBE-9A5E2F0B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AB10-E12D-4A5A-8B23-196889F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D709-6B20-444A-9C89-DA09E3D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AA9-53BF-4D2B-96BC-7E04F882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1AB9-10BE-4C18-A511-6F4DCD7A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40AA-B4C9-4EBE-876A-8A4C7D74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0098-0EEC-4DBC-A7BB-5B6E271C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DC35-2602-4A62-B766-1EC07C2E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1AC5-BBC9-4044-B773-1D438EE9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CED-61CD-4978-9A62-F54CB774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5EF-1EAA-44A0-9260-EB6421DF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17E-97B5-4D29-BA27-93CD4E2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9A8-99E9-4C4C-AF92-DBD6AE05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CEF-5123-4122-BFB0-3ACED640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175-6E5D-4CDF-8ADF-E44CBD5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8CC-8FF0-4F30-9211-B7639629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D442-05C6-4802-89F5-5B87683ED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FE1D-C268-4905-AB1D-020DC0495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p.com/productlanding.do?categoryId=6842&amp;contentId=7021390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umption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rth America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vie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mericans have been heavi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led on energy conservation since the 1970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verwhelming majority of Americans have been in favo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moting conservative viewpo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was evident in the numbe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a insurgencies related to alternate sources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 were also specific moves made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n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ear more effi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ctual product and in style. It is still relative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shion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an outdoorsman or self-sufficient styl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energy rose ten-f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0s to the 90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e in individual w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estern nations led to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 in individual 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rth Americans tend to ge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set with increases in costs for go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fore, the necessity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ing ones standard or living for the environment has been un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any people will donate their time towards a cause in protest, but wi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their ways if it incurs extra costs, or means that they will have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 without some items they have become accustomed to living 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rectly transferred to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non-renewable resources and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t is al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ly related to 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day it is even worse. Consumption levels have continued to increase as se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Vs (&amp; number of vehicles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power toys, automatic devices, recreational activities, disposable items, selection of purchasable goods, quality of demands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s continue to deman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value for their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us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er, non-renewable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are also concerned abou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of 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is felt that any restrictions on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irectly juxtaposed to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as citiz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makes oil the ‘drink’ of choi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rcially use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y must be in a form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convert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orms of energy desired by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&amp; economically stored or transpor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only forms of energy currently satisfying these requirements are electrical energy &amp; chemic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n a chemical (oil, gas or coal), nuclear or hydro form is converted in a power plant to electricity. This electrical energy is then transported via conducting wires to our homes and factories where it is converted into other forms by electrical appli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 are transported in chemical form by ships, trucks and pipelines. Their chemical energy is then converted to heat energy by combu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ny forms of “natural energy” available on earth, only a few are readily convertible into “commercial energy.” Most important of the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ssil fuels (coal, oil, natural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dro-electr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a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P Statistical Review of World Energ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ter Davies’, Chief Economist, presents the key dimensions of the global energy market in 2005 as reflected in the data published in the BP Statistical Review of Worl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p.com/productlanding.do?categoryId=6842&amp;contentId=70213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half of the class will read “Power Politics,” while the other half reads “Life After Oil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eams will then write up questions/answers about each article, and give them to other team. The other team will then answer the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I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Where do we go from here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0364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036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rt I: Consumeris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Basic Elements Needed to Reduce 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nergy crisis of sorts would be a catalyst in getting North Americans to begin accepting lower consumption restri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n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elt that savings made on energy consumption should be returned to the consu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tter Publ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r guidelines stipulating the need for access to public transit and/or low consumption services could easily be made to developers and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ingent Governmen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regulations need to be in line with reduction incentives. If no regulations accompany these endeavors, there is a lack of commitment on the part of both consumers and produc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Effici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forms of technology available today to run materials more efficiently (i.e. cars, cooling units, building products), however, they are mor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and Development of More Recycl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inexpensive availability of both building materials and products, it becomes cheaper to throw away than reuse or reform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ro-Waste Initia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ero-waste initiatives are the latest trend in the corporate world. In essence, they are based on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eduction of waste both at the production and consumption level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There a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veral advantag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both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nvironment and the corporat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ersonal wa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of recycle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ain on waste disposal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the overa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umption of raw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wer employ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take care of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s sto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house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tion in transpo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to transport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of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suppl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turn on inves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recycling of wastes (more money per gram of produc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ed cost of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less packag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ier public i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using a 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rease in consump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WW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e in 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cha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ed materia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relation to buy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5 influenc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atalyzing a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ri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in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pp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 consume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a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ld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al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ociat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ailability &amp; its power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umerism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761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 5 minutes and write down EVERY SINGLE THING you bought on Saturday &amp; share this with a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’s – breakfast, $7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urnament program- $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50/50 draw- $2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ffee – Tim’s, $3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 –$40.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nch – Subway, $1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cery store – groceries for supper $22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ircut for Rogan- $18.00+ $4.00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Newspaper- $1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s- Jumbo $15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ks-  $8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: $135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o consumes the m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veloping worl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N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1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cation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ience &amp;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d the article “Enough is enough” and answer th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71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: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Energy Consump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095640" cy="22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519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04:33Z</dcterms:created>
  <dc:creator>Christy Dallaire</dc:creator>
  <dc:description/>
  <dc:language>en-US</dc:language>
  <cp:lastModifiedBy>nbdoe</cp:lastModifiedBy>
  <dcterms:modified xsi:type="dcterms:W3CDTF">2007-12-11T12:28:24Z</dcterms:modified>
  <cp:revision>6</cp:revision>
  <dc:subject/>
  <dc:title>Consumption!</dc:title>
</cp:coreProperties>
</file>