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ADCD-4EE2-493A-9949-84240D81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DD9-E722-4F6B-BDBD-4DB79F55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13D3-33B6-4DB1-B7C7-B36F11E2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660-1AEA-49DE-B3C3-C09E5BD2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02B4-D5CA-4FFD-91E6-B501344E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75A4-5341-491D-A4CD-28421180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584E-3F6C-4A95-9962-A544455A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AF1B-3E7A-4C3B-970D-DE6CAC36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38F4-FC43-4C56-B43A-4A21705B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6A40-40B4-4CBD-89E9-84F06F5C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6277-3405-4AE0-B4CA-E65BAB84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525B-3A8A-4A50-BBBA-2D851D9C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1279-8CE2-4545-94BF-010839F6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D85B-A756-4B95-8FFB-F63468AE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B770-E666-4947-BDE9-8AEF8B3F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DC03-9A4A-4575-B4B6-28FAFA57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07CE-13EC-4B0F-A4BD-E02A59E7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653B-4686-43C8-8994-92886B1A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23EB-FE61-4320-8B74-448C3792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7AA9-0488-4682-8DC9-3CF7B0DE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C3B2-552A-4031-AE4C-E91C1C8A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546-CC57-4CA6-8514-EE3EE697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EB8D-5EBD-4B76-8A8F-94887606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D55-D8AC-4162-9130-FB65BEE1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2B9D-10D4-463C-9C7A-3DA1E480DB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0BEE-65C9-46D0-8153-C7E80BBA6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p.com/productlanding.do?categoryId=6842&amp;contentId=7021390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amesblog.it/uploads/pacma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nsumption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280" y="393336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ld Issues 1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orth America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rth American view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 Americans have been heavil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lled on energy conservation since the 1970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overwhelming majority of Americans have been in favor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moting conservative viewpoi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is was evident in the number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dia insurgencies related to alternate sources of ener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re were also specific moves made b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an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pear more effici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actual product and in style. It is still relativel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shionabl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 an outdoorsman or self-sufficient style per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rth American 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sumption of energy rose ten-fo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70s to the 90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ise in individual weal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estern nations led to a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e in individual buying pow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North Americans tend to ge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pset with increases in costs for go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refore, the necessity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wering ones standard or living for the environment has been unsuccessfu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Many people will donate their time towards a cause in protest, but will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o litt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change their ways if it incurs extra costs, or means that they will have to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 without some items they have become accustomed to living 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rth American dem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crease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uying pow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directly transferred to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sumption of non-renewable resources and ener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t is also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rectly related to FREEDO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day it is even worse. Consumption levels have continued to increase as seen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Vs (&amp; number of vehicles)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, power toys, automatic devices, recreational activities, disposable items, selection of purchasable goods, quality of demands of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Americans continue to demand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re value for their dol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expen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using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aper, non-renewable produ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They are also concerned about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eedom of cho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t is felt that any restrictions on thei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directly juxtaposed to thei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EEDOM as citize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makes oil the ‘drink’ of choic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order to b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ercially usefu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energy must be in a form that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asily converti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 forms of energy desired by consu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asily &amp; economically stored or transpor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 custom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only forms of energy currently satisfying these requirements are electrical energy &amp; chemical ener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in a chemical (oil, gas or coal), nuclear or hydro form is converted in a power plant to electricity. This electrical energy is then transported via conducting wires to our homes and factories where it is converted into other forms by electrical appli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els are transported in chemical form by ships, trucks and pipelines. Their chemical energy is then converted to heat energy by combu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620280"/>
            <a:ext cx="8007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many forms of “natural energy” available on earth, only a few are readily convertible into “commercial energy.” Most important of these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ssil fuels (coal, oil, natural g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ydro-electric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clear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P Statistical Review of World Energy 200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ter Davies’, Chief Economist, presents the key dimensions of the global energy market in 2005 as reflected in the data published in the BP Statistical Review of World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bp.com/productlanding.do?categoryId=6842&amp;contentId=70213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-class assignment / homewo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ne half of the class will read “Power Politics,” while the other half reads “Life After Oil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teams will then write up questions/answers about each article, and give them to other team. The other team will then answer the qu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Part III: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Where do we go from here?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227640" y="3789360"/>
            <a:ext cx="2303640" cy="2098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16000" y="3933720"/>
            <a:ext cx="230364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art I: Consumerism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92360" y="393336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6 Basic Elements Needed to Reduce Consump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nergy crisis of sorts would be a catalyst in getting North Americans to begin accepting lower consumption restric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en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felt that savings made on energy consumption should be returned to the consu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tter Public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rictions or guidelines stipulating the need for access to public transit and/or low consumption services could easily be made to developers and plann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ringent Government Reg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regulations need to be in line with reduction incentives. If no regulations accompany these endeavors, there is a lack of commitment on the part of both consumers and produc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re Efficient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any forms of technology available today to run materials more efficiently (i.e. cars, cooling units, building products), however, they are more expens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search and Development of More Recycled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e to the inexpensive availability of both building materials and products, it becomes cheaper to throw away than reuse or reform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Zero-Waste Initiati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Zero-waste initiatives are the latest trend in the corporate world. In essence, they are based on th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reduction of waste both at the production and consumption level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 There ar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several advantage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to both th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nvironment and the corporate bo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nviron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ersonal was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employ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s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of recycled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ens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rain on waste disposal meth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s the overal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umption of raw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porate Bo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ewer employe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ed to take care of was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s stor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ed to house was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uction in transpor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s to transport was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r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st of produ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rea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tal supply n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turn on invest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the recycling of wastes (more money per gram of produc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uced cost of produ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less packaging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althier public im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Consump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act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using a dramatic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rease in consump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ince WWI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matic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a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ise in wester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ar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tenti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rchasing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mported material goo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relation to buying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5 influence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catalyzing a </a:t>
            </a: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rise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in </a:t>
            </a: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consump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er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opping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ic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eating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enti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gh consumer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pan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rld mar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cial stat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sociated with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ti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vailability &amp; its power t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l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umerism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57610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-class activ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e 5 minutes and write down EVERY SINGLE THING you bought on Saturday &amp; share this with a part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men’s – breakfast, $7.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ournament program- $1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50/50 draw- $2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ffee – Tim’s, $3.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s –$40.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nch – Subway, $11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cery store – groceries for supper $22.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Haircut for Rogan- $18.00+ $4.00 t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Newspaper- $1.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deos- Jumbo $15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nacks-  $8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tal: $135!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o consumes the mos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veloping worl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h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75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world’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5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ergy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7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world’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N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world’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o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1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ducation sp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8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ar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5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cience &amp;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349360"/>
            <a:ext cx="2663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 class assignment / homewo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ad the article “Enough is enough” and answer the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780000" y="3213000"/>
            <a:ext cx="171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Part II: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Energy Consumptio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3095640" cy="2254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564000" y="3645000"/>
            <a:ext cx="2663640" cy="2163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227640" y="3429000"/>
            <a:ext cx="25196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7:04:33Z</dcterms:created>
  <dc:creator>Christy Dallaire</dc:creator>
  <dc:description/>
  <dc:language>en-US</dc:language>
  <cp:lastModifiedBy>nbdoe</cp:lastModifiedBy>
  <dcterms:modified xsi:type="dcterms:W3CDTF">2007-12-11T12:28:24Z</dcterms:modified>
  <cp:revision>6</cp:revision>
  <dc:subject/>
  <dc:title>Consumption!</dc:title>
</cp:coreProperties>
</file>