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478-53B9-4A88-A02F-7F19395D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E0F-D01F-4937-885F-0AC7AB85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ABE-9098-4F00-8FC5-E88603C2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CEF-1226-4E7B-80D2-589744D5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A58B-FFA2-47E3-98BC-DCD1B81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392D-2886-4AB5-9BB2-08DFAE7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987-22E4-48B7-9C99-08ED813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4B9A-2961-4160-B035-BB187CE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00A-D5EA-42F1-8279-844071E1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15D-7E9F-4653-8888-05214C2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B6B-E1B8-4E43-82C3-10DD00E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BD0-51EE-4337-8B8B-1BAC0F00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E3A2-7CAD-4DA3-8FC0-031A7680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5DD-AF31-4A4B-94EB-FAFCCA2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6BE5-F035-4534-AED3-695254C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4DB-305D-4125-BBC7-2C30C941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785-5A19-45C4-8DE2-AB0A42FE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7F7-E330-468F-A9A8-0C3EA20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783-4B3E-44CE-B7FA-86EA11CE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8AD-11B2-4043-A6F7-3B5B65B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CBB-B45B-47D3-A602-2311189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B55-C156-443B-8971-AAB945D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986-0065-4638-B690-E73D8B1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4CB-9CC9-4596-9351-CF645840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89D7-13FC-4343-945A-2CADB3B15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7DAF-2D69-49CE-A327-B13920747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p.com/productlanding.do?categoryId=6842&amp;contentId=7021390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umption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rth Americ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vie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ns have been heavi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led on energy conservation since the 1970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verwhelming majority of Americans have been in favo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oting conservative view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was evident in the numbe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a insurgencies related to alternate sources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 were also specific moves made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n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ear more effi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ctual product and in style. It is still relative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shion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n outdoorsman or self-sufficient styl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energy rose ten-f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0s to the 90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e in individual w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estern nations led to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 in individual 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rth Americans tend to ge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set with increases in costs for go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fore, the necessity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ing ones standard or living for the environment has been un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any people will donate their time towards a cause in protest, but wi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their ways if it incurs extra costs, or means that they will have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 without some items they have become accustomed to living 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rectly transferred to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non-renewable resources and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is al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ly related to 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day it is even worse. Consumption levels have continued to increase as se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Vs (&amp; number of vehicles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power toys, automatic devices, recreational activities, disposable items, selection of purchasable goods, quality of demands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s continue to deman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value for their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us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er, non-renewable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are also concerned abou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of 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is felt that any restrictions on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irectly juxtaposed to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a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makes oil the ‘drink’ of choi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rcially use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y must be in a form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convert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orms of energy desired by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&amp; economically stored or transpor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nly forms of energy currently satisfying these requirements are electrical energy &amp; chemic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n a chemical (oil, gas or coal), nuclear or hydro form is converted in a power plant to electricity. This electrical energy is then transported via conducting wires to our homes and factories where it is converted into other forms by electrical appli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 are transported in chemical form by ships, trucks and pipelines. Their chemical energy is then converted to heat energy by combu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ny forms of “natural energy” available on earth, only a few are readily convertible into “commercial energy.” Most important of the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ssil fuels (coal, oil, natural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dro-electr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a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P Statistical Review of World Energ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ter Davies’, Chief Economist, presents the key dimensions of the global energy market in 2005 as reflected in the data published in the BP Statistical Review of Worl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p.com/productlanding.do?categoryId=6842&amp;contentId=70213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half of the class will read “Power Politics,” while the other half reads “Life After Oil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s will then write up questions/answers about each article, and give them to other team. The other team will then answer the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I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here do we go from here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0364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03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rt I: Consumeris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Basic Elements Needed to Reduce 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nergy crisis of sorts would be a catalyst in getting North Americans to begin accepting lower consumption restri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n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elt that savings made on energy consumption should be returned to the consu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Publ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r guidelines stipulating the need for access to public transit and/or low consumption services could easily be made to developers and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ingent Governmen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regulations need to be in line with reduction incentives. If no regulations accompany these endeavors, there is a lack of commitment on the part of both consumers and produc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Effici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forms of technology available today to run materials more efficiently (i.e. cars, cooling units, building products), however, they are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and Development of More Recycl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inexpensive availability of both building materials and products, it becomes cheaper to throw away than reuse or reform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ro-Waste Initia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ero-waste initiatives are the latest trend in the corporate world. In essence, they are based on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eduction of waste both at the production and consumption level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There a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ral advantag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both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nvironment and the corporat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ersonal wa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of recycle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ain on waste disposal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the over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umption of raw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wer employ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take care of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s sto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house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tion in transpo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to transport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of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suppl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turn on inves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recycling of wastes (more money per gram of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ed cost of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less packag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ier public i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sing a 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 in consum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W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e in 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cha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ed materia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relation to buy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5 influenc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atalyzing a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ri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in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pp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consume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a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al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ociat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ailability &amp; its power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umerism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761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5 minutes and write down EVERY SINGLE THING you bought on Saturday &amp; share this with a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’s – breakfast, $7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urnament program- $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50/50 draw- $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ffee – Tim’s, $3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–$40.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 – Subway, $1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cery store – groceries for supper $22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ircut for Rogan- $18.00+ $4.00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Newspaper- $1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s- Jumbo $1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ks-  $8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: $135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o consumes the m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veloping worl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N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tion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ience &amp;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d the article “Enough is enough” and answer th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71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: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nergy Consump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095640" cy="22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519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04:33Z</dcterms:created>
  <dc:creator>Christy Dallaire</dc:creator>
  <dc:description/>
  <dc:language>en-US</dc:language>
  <cp:lastModifiedBy>nbdoe</cp:lastModifiedBy>
  <dcterms:modified xsi:type="dcterms:W3CDTF">2007-12-11T12:28:24Z</dcterms:modified>
  <cp:revision>6</cp:revision>
  <dc:subject/>
  <dc:title>Consumption!</dc:title>
</cp:coreProperties>
</file>