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AB7-2690-4F29-B5CA-DB8180C8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1EF-F660-40D5-9499-40B83A82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5EC-86BD-4086-A524-ACCFFA15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959-6D94-48B4-9E16-5435D231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687A-E600-45DB-BB95-46D4BA79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D6E0-E0C4-41DB-B302-0E7D904C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808E-03C5-4FC2-8D98-BDB855D1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A89D-31EA-49E8-9A97-8E3FD7D7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49CD-DA3D-4AB7-9891-264FB2E0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5524-08E1-4D5F-836B-37690435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B9DD-BD4E-4667-83AA-27B7B555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FE0-D8AF-4E69-9108-6E576410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1209-FFBD-4C0F-8EF3-0990A675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92A3-3496-4041-B800-4DF6D4E9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705A-8F4B-47F2-A455-66C2EE23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7A6C-A792-4DD8-9CCF-9A970C3B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1BDC-76B5-482C-9E08-B2E258E2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316-536D-4BBE-907C-6DDA7F54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D95-B3C5-4979-8C87-A9987FB9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320-3070-4645-90E8-17C3DE56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46B-635A-474F-8FFC-D5BA4E93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C38-C5A2-4C1F-83C5-80C0D394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451-82DA-49E1-8C7D-5D092BA4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6EF-C33A-454F-8A68-E6B2A0B7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E06F-01F8-4857-B91B-CAE605C41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5B70-79B5-4D5F-BF94-911FF2B73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p.com/productlanding.do?categoryId=6842&amp;contentId=7021390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amesblog.it/uploads/pacma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sumption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93336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Issues 1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orth America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view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Americans have been heavi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led on energy conservation since the 1970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overwhelming majority of Americans have been in favor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moting conservative viewpoi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is was evident in the number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dia insurgencies related to alternate sources of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re were also specific moves made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n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ear more effici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ctual product and in style. It is still relative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shionab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an outdoorsman or self-sufficient style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mption of energy rose ten-f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0s to the 90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se in individual w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estern nations led to a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 in individual buying p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North Americans tend to ge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set with increases in costs for go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refore, the necessity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ing ones standard or living for the environment has been unsuccess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any people will donate their time towards a cause in protest, but wil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lit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hange their ways if it incurs extra costs, or means that they will have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 without some items they have become accustomed to living 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de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reas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ying p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directly transferred to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mption of non-renewable resources and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t is als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ectly related to FREED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day it is even worse. Consumption levels have continued to increase as seen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Vs (&amp; number of vehicles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power toys, automatic devices, recreational activities, disposable items, selection of purchasable goods, quality of demands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mericans continue to deman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value for their dol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n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us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aper, non-renewable 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hey are also concerned about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dom of 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t is felt that any restrictions on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irectly juxtaposed to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DOM as citiz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makes oil the ‘drink’ of choi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ercially use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nergy must be in a form t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converti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forms of energy desired by consu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&amp; economically stored or transpor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only forms of energy currently satisfying these requirements are electrical energy &amp; chemical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in a chemical (oil, gas or coal), nuclear or hydro form is converted in a power plant to electricity. This electrical energy is then transported via conducting wires to our homes and factories where it is converted into other forms by electrical appli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ls are transported in chemical form by ships, trucks and pipelines. Their chemical energy is then converted to heat energy by combu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many forms of “natural energy” available on earth, only a few are readily convertible into “commercial energy.” Most important of these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ssil fuels (coal, oil, natural g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ydro-electr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a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P Statistical Review of World Energy 200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ter Davies’, Chief Economist, presents the key dimensions of the global energy market in 2005 as reflected in the data published in the BP Statistical Review of World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p.com/productlanding.do?categoryId=6842&amp;contentId=70213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-class assignment /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half of the class will read “Power Politics,” while the other half reads “Life After Oil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eams will then write up questions/answers about each article, and give them to other team. The other team will then answer the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Part III: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Where do we go from here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227640" y="3789360"/>
            <a:ext cx="2303640" cy="209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23036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art I: Consumerism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393336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 Basic Elements Needed to Reduce 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nergy crisis of sorts would be a catalyst in getting North Americans to begin accepting lower consumption restri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en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felt that savings made on energy consumption should be returned to the consu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tter Public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ions or guidelines stipulating the need for access to public transit and/or low consumption services could easily be made to developers and plan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ingent Government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regulations need to be in line with reduction incentives. If no regulations accompany these endeavors, there is a lack of commitment on the part of both consumers and produc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Efficient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forms of technology available today to run materials more efficiently (i.e. cars, cooling units, building products), however, they are more 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arch and Development of More Recycl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to the inexpensive availability of both building materials and products, it becomes cheaper to throw away than reuse or reform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ero-Waste Initia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ero-waste initiatives are the latest trend in the corporate world. In essence, they are based on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eduction of waste both at the production and consumption level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There ar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everal advantage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o both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nvironment and the corporat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viro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ersonal was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of recycled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ain on waste disposal meth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s the overa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umption of raw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porate B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wer employ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take care of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s stor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house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tion in transpor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s to transport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st of pro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tal supply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turn on inves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recycling of wastes (more money per gram of produc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ed cost of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less packagi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lthier public im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c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using a dramat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rease in consump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nce WW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t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a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se in wester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r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ten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chas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orted material goo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relation to buy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5 influenc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catalyzing a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ris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in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pping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eat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en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 consumer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a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ld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cial st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sociated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ti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vailability &amp; its power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umerism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7610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-class 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e 5 minutes and write down EVERY SINGLE THING you bought on Saturday &amp; share this with a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men’s – breakfast, $7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urnament program- $1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50/50 draw- $2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ffee – Tim’s, $3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 –$40.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nch – Subway, $11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cery store – groceries for supper $22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aircut for Rogan- $18.00+ $4.00 t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Newspaper- $1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deos- Jumbo $15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acks-  $8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: $135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o consumes the mos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veloping worl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h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7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N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1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ducation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ience &amp;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266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class assignment /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d the article “Enough is enough” and answer the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171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Part II: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Energy Consumpti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3095640" cy="2254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519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7:04:33Z</dcterms:created>
  <dc:creator>Christy Dallaire</dc:creator>
  <dc:description/>
  <dc:language>en-US</dc:language>
  <cp:lastModifiedBy>nbdoe</cp:lastModifiedBy>
  <dcterms:modified xsi:type="dcterms:W3CDTF">2007-12-11T12:28:24Z</dcterms:modified>
  <cp:revision>6</cp:revision>
  <dc:subject/>
  <dc:title>Consumption!</dc:title>
</cp:coreProperties>
</file>