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E2D-AD03-4CA7-8D81-9C812122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109-FAC2-4DC9-A9C8-80AE0C5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396-F111-42C9-AB89-D8F3BD8F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14D-FCCE-4BAF-A19E-315BE8B7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363D-E53C-41B8-9138-ADE270E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BCC-BB24-4D30-AFE3-9D90D7E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6F94-D3B2-4C82-9EFB-CBD4F3B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0125-E90F-4E23-8139-0F2F344F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FA64-90F1-46A1-AA38-0302FDC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F253-CEE1-4FAA-AE48-ACB1EF0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B88-4EC9-4164-80F0-C5B4877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9C0-41BC-4BF4-AD94-E7C0F74C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BAB-2708-47CC-9B89-E690F0F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8C9-2AF2-4878-854A-0CB4F8E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9F0B-EA66-451C-B654-7577B0A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E941-A228-4D25-A83E-97AD7D1F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4788-A924-4AA8-B056-5AB9B545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C4B-3A70-4E27-B9CF-52DD85F8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555-253E-4B29-AF68-513ACB40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B5A-1AEB-4637-8118-5DF6C62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4DA-200A-4243-9B2E-30A6635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947-D6E2-4B6F-9892-928DB75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305-6DE1-4610-9B5E-05060B2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8C3-62A5-4491-BD73-BEA63DD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665-AE3B-40ED-A3CD-DE349AFDA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2A15-E8F8-41A0-84B1-0D0868AAD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p.com/productlanding.do?categoryId=6842&amp;contentId=7021390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umption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rth America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vie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mericans have been heavi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led on energy conservation since the 1970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verwhelming majority of Americans have been in favo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oting conservative viewpoi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was evident in the number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a insurgencies related to alternate sources of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 were also specific moves made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n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ear more effi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ctual product and in style. It is still relative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shion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an outdoorsman or self-sufficient style per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energy rose ten-f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0s to the 90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e in individual w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estern nations led to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 in individual 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rth Americans tend to ge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set with increases in costs for go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refore, the necessity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ing ones standard or living for the environment has been un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any people will donate their time towards a cause in protest, but wi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their ways if it incurs extra costs, or means that they will have t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 without some items they have become accustomed to living 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rth American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ying po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rectly transferred to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mption of non-renewable resources and 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is al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ly related to 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day it is even worse. Consumption levels have continued to increase as see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Vs (&amp; number of vehicles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power toys, automatic devices, recreational activities, disposable items, selection of purchasable goods, quality of demands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s continue to deman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value for their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xpen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us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aper, non-renewable 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are also concerned about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of 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is felt that any restrictions on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irectly juxtaposed to thei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DOM as citiz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makes oil the ‘drink’ of choi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rcially use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nergy must be in a form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convert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forms of energy desired by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&amp; economically stored or transpor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nly forms of energy currently satisfying these requirements are electrical energy &amp; chemic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in a chemical (oil, gas or coal), nuclear or hydro form is converted in a power plant to electricity. This electrical energy is then transported via conducting wires to our homes and factories where it is converted into other forms by electrical appli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s are transported in chemical form by ships, trucks and pipelines. Their chemical energy is then converted to heat energy by combu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ny forms of “natural energy” available on earth, only a few are readily convertible into “commercial energy.” Most important of the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ssil fuels (coal, oil, natural g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dro-electr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a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P Statistical Review of World Energ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ter Davies’, Chief Economist, presents the key dimensions of the global energy market in 2005 as reflected in the data published in the BP Statistical Review of Worl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p.com/productlanding.do?categoryId=6842&amp;contentId=70213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half of the class will read “Power Politics,” while the other half reads “Life After Oil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s will then write up questions/answers about each article, and give them to other team. The other team will then answer the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I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Where do we go from here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0364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036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rt I: Consumeris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393336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 Basic Elements Needed to Reduce 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nergy crisis of sorts would be a catalyst in getting North Americans to begin accepting lower consumption restri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n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elt that savings made on energy consumption should be returned to the consu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tter Public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r guidelines stipulating the need for access to public transit and/or low consumption services could easily be made to developers and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ingent Government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regulations need to be in line with reduction incentives. If no regulations accompany these endeavors, there is a lack of commitment on the part of both consumers and produc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Effici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forms of technology available today to run materials more efficiently (i.e. cars, cooling units, building products), however, they are more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and Development of More Recycl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the inexpensive availability of both building materials and products, it becomes cheaper to throw away than reuse or reform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ro-Waste Initia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ero-waste initiatives are the latest trend in the corporate world. In essence, they are based on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eduction of waste both at the production and consumption level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There ar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everal advantag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o both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nvironment and the corporat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ersonal wa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of recycle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s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rain on waste disposal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the overal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umption of raw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wer employ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take care of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ss sto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house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tion in transpo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to transport wa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of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tal suppl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turn on inves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recycling of wastes (more money per gram of produc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uced cost of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less packag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ier public i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c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sing a 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 in consump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W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se in 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chas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ed material goo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relation to buy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5 influenc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atalyzing a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ri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in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consump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pp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at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consume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a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cial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ociated with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ti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ailability &amp; its power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umerism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761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-class 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5 minutes and write down EVERY SINGLE THING you bought on Saturday &amp; share this with a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’s – breakfast, $7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urnament program- $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50/50 draw- $2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ffee – Tim’s, $3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s –$40.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 – Subway, $11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cery store – groceries for supper $22.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aircut for Rogan- $18.00+ $4.00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Newspaper- $1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s- Jumbo $15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ks-  $8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: $135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o consumes the m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veloping worl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N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world’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ucation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l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ience &amp;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class assignment / home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d the article “Enough is enough” and answer th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71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Part II: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Energy Consump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3095640" cy="225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5196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04:33Z</dcterms:created>
  <dc:creator>Christy Dallaire</dc:creator>
  <dc:description/>
  <dc:language>en-US</dc:language>
  <cp:lastModifiedBy>nbdoe</cp:lastModifiedBy>
  <dcterms:modified xsi:type="dcterms:W3CDTF">2007-12-11T12:28:24Z</dcterms:modified>
  <cp:revision>6</cp:revision>
  <dc:subject/>
  <dc:title>Consumption!</dc:title>
</cp:coreProperties>
</file>