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WHOOSH.WAV" ContentType="audio/x-wav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6D41-D978-46DE-B1D9-1F0041E1D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2E93-F366-4D55-8001-4BA93601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A8DD-4B3E-4747-ACAC-206CD24B8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DC99-FA04-4E28-8671-5A65E9FA4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57D2-B6AC-4DC3-9F84-6FF1933A5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2114-AE5C-4A94-B7A4-A699F6A2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4971-E716-41A1-854C-9B9DDE67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49E4-4ACD-4805-8109-6E0759E0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DDCF-5F9A-4373-9960-2955C453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F3CE-BB06-45C0-80A1-AB636CB2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F979-9791-4DF8-8997-4DAC24FD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1B6E-536D-421D-BA57-F6A5178B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905A-A459-4351-821B-6E1DFCE1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5321-2CA2-4B7F-BBAE-216AADC7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DD7E-5AAD-48CE-900E-3667A8DC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7A4A-320A-41BA-8943-67D62596F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BA6E-E23D-414D-B66D-515167767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138D-0D86-4CEA-B5F4-8324F338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0EDB-1DB9-48D5-A7B6-4D5F3994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10D3-1CD4-4199-A9DD-CEB62D70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3E03-6DE7-45C4-A70A-15DB65B9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2864-FA5B-4FC5-BE58-43EAFC3F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AF2F-8DB2-4509-8DFF-68EB7463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06F6-5E03-42F3-B20C-BB77E7DC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D12D-E888-44A3-91F3-9C87AD1085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F347-CB13-4382-A4A0-C6842F08CF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to Keep the Third World Countries at ba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sentation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mily Ya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ructural Adjustment Progra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World Countr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ational removal of subsidies to the poor on basic food stuff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ax systems are made more repressiv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al wage rates are allowed to fall sharpl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ructural Adjustment Loa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ot tied to one specific projec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vernments had to agree on a drastic program of liberalization for multi-million dollar loa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duced state’s role in the econom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owering barriers to imports, removing restrictions on foreign investm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mphasizing production for export rather than for local consump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ivatization and Deregul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reign investment is taking over the developing countr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ess power  and control on the part of the developing stat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an raise rates, which make the poor suff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cal governments are given money to let foreign investment take over. 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olutions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bolish these institu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reate a special UN agency to control the World Bank and the IMF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oples and countries force change on the institutions, by confronting them with evidence of the injust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ycle of Oppress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419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unding for Third World Countri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Never get out of deb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Resources will be depleted to pay the deb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World countries will get poorer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Industrialized countries will be more rich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105520" y="2362320"/>
            <a:ext cx="373356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rategic implementation of repaymen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Once offered funds, Third World Countries will never be out of deb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Kept in a cycle of repaym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is binds the less  industrialized countries to ask for more fund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 process of granting aid should be slowed down or thrown ou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orks Cite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rnold, G.(1985).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Aid and the Third World: The North/South Divide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. London, Great Britain: Robert Royce Limited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Danaher, K. (1994).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50 Years is Enough: The Case Against The World Bank and the International Monetary Fund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. Boston, MA: South End Pres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orks Cite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ancock, G. (1989).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Lords of Poverty: The free-wheeling lifestyles, power, prestige and corruption of the multi-billion dollar aid business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. London, Great Britain: MacMillan London Limited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erman, E. S. (1995).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Triumph of the Market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. Boston, MA: South End Pres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cipients of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ngle commodity countr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rices fluctuates because of the world market econom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ack of trained peop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uilding an educational system takes tim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nsufficient amount of people to learn the technolog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cipients of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Quest for capita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ek it overseas because of lack of supply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eed for foodstuff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mplemented policies  to encourage cash crop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ood for consumption diminishe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eed food imports to feed citize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Bilateral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 aid from one country to another, usually from First World countries to Third World countr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ultilateral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id that is funneled by a non-affiliated agency, such as the World Bank or UN agenc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nsidered to be more objectiv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ess politically affiliated and more freedom is granted to the developing countr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ess intrus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orld Bank               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istor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reated to help in reconstruction after WWII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rant loans for non-profitable construction like roads, schools, and housing projects. 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oan money to less industrious countries for promotion of their economic growth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rnational Monetary Fun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ission is to supply member states with money to help them to overcome short-term balance of payment difficult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ney is only made available after the recipients have agreed to policy reforms in their economies-to structural adjustme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embership of the World Bank is conditional upon membership of the IMF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ructural Adjustment Progra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rant other more industrialized countries, like the US, access to resources like cheaper labor and foreign investment with lower export tariffs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873680" y="1981080"/>
            <a:ext cx="3359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sequences of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4495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conomic deprev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ocial expenditures are slashed, like health and educa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nvironmental devast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Massive deforesta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Near extinction of nearby coastal fish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602400" y="3492360"/>
          <a:ext cx="349200" cy="41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02400" y="3492360"/>
                    <a:ext cx="34920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029200" y="2743200"/>
            <a:ext cx="3809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9T06:27:23Z</dcterms:created>
  <dc:creator>Emily Dao</dc:creator>
  <dc:description/>
  <dc:language>en-US</dc:language>
  <cp:lastModifiedBy>nbdoe</cp:lastModifiedBy>
  <dcterms:modified xsi:type="dcterms:W3CDTF">2009-11-18T14:06:35Z</dcterms:modified>
  <cp:revision>10</cp:revision>
  <dc:subject/>
  <dc:title>The Strategic Deprivation of Third World Countr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eclectic.ss.uci.edu</vt:lpwstr>
  </property>
  <property fmtid="{D5CDD505-2E9C-101B-9397-08002B2CF9AE}" pid="9" name="LinkColor">
    <vt:r8>16711782</vt:r8>
  </property>
  <property fmtid="{D5CDD505-2E9C-101B-9397-08002B2CF9AE}" pid="10" name="MailAddress">
    <vt:lpwstr>drwhite@uci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D:\ftp\Anthro174-XC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