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A97-CDE1-4CBB-8BDB-F76A781C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ED1-909A-4F36-8622-2E92FD36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325-E1B3-42DF-9C3A-B4F25BE7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3CD-49CB-4374-A742-53C6D052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BA2-3A92-44D6-9493-CFA93006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D40-C7AD-4E47-AF7C-717E02E7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0377-C885-458A-9DFB-830ADED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C20-5088-40D5-978E-AC8ABF31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C08-2C6D-442B-B6FA-1E5BDDA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64F-4F9A-4547-B89A-F550C78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C46F-AB15-4E25-99B6-EA27311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9E-0136-4A60-9DE2-CC1FA64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8869-98F4-46F8-9F41-572CB55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E4CE-8A5F-437E-9CBB-1FFBA886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5F18-C9E4-43EB-8A72-D7BA99CA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D8A1-A66F-4CAC-B07D-C53DB0C3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2F0C-359B-468B-AA12-65B2C94D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05C-3396-485E-9E67-5AF34D2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E7B-C92C-4332-B9E6-5D234E3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21C-0864-46F7-AAFA-A4AEDAA7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DD4-8CE4-4F1F-94C7-EFD94CA9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948-F610-4C59-8DAA-1F9FD0E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B86-CD11-46E0-B5FB-CF9F447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656-83FF-4038-8FBC-F2E87B93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896-2595-44C9-903F-29A99DE66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346B-5AA8-4A06-8459-8151EEDCC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ily Ya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nbdoe</cp:lastModifiedBy>
  <dcterms:modified xsi:type="dcterms:W3CDTF">2009-11-18T14:06:35Z</dcterms:modified>
  <cp:revision>10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