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2A9-5E4F-4E20-A351-9367E0A5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2D0-E88A-4E1A-A07B-B96430D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430-28AF-414D-9814-7275FD5C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0EF-4C6D-4187-B321-109608E6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0AEC-5EB4-47E9-B69E-DEBBAE8F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1F69-34C3-4BB7-9FD8-98F72CA3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6959-FF0A-4BE1-AC94-93F0AFDC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F941-33C0-4382-B611-341CC15C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EC49-1DE9-4CF1-B478-20D1AA0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2859-26A7-45D8-B13A-030F2C12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BE2F-A55D-4F49-B2F7-7DA3A8A4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609-B067-4972-A768-99E4D1A2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E323-2F99-408F-B356-34844BEA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D900-9005-479E-8E3E-A17D9018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D92C-5A26-45A6-BAB4-4EED86B9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157F-C146-44B6-BBB6-BDBCD8FE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29D7-BC47-4D7B-83B4-82BDCF7D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D54-26A8-4909-96BE-A031253F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7CA-FA2E-40EC-87EB-4DA8A228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A60-BF02-4882-A920-1520625F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00C-C8FF-4497-B7EB-F629F0BF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9B7-77DA-4E1A-A729-6BF3066B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335-D949-4933-9E5F-132FABD0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836-F7F6-4A9B-A659-F9E9DF67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2B4B-2C2E-4A9D-A726-95B24907A4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4D9E-D928-444C-8DBB-747971976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Keep the Third World Countries at ba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sentation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mily Ya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removal of subsidies to the poor on basic food stuf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x systems are made more repres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l wage rates are allowed to fall sharp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tied to one specific proje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vernments had to agree on a drastic program of liberalization for multi-million dollar lo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ced state’s role in the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wering barriers to imports, removing restrictions on foreign invest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hasizing production for export rather than for local consump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vatization and Deregul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eign investment is taking over the developing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power  and control on the part of the developing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raise rates, which make the poor suff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cal governments are given money to let foreign investment take over.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tion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olish these institu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eate a special UN agency to control the World Bank and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oples and countries force change on the institutions, by confronting them with evidence of the injust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cle of Opp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ding for Third World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ver get out of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sources will be depleted to pay the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World countries will get poor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dustrialized countries will be more ri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3733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ategic implementation of repay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ce offered funds, Third World Countries will never be out of deb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ept in a cycle of repay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binds the less  industrialized countries to ask for more f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rocess of granting aid should be slowed down or thrown o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nold, G.(198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id and the Third World: The North/South Divid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Robert Royce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anaher, K. (1994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50 Years is Enough: The Case Against The World Bank and the International Monetary Fund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ncock, G. (1989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Lords of Poverty: The free-wheeling lifestyles, power, prestige and corruption of the multi-billion dollar aid busine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MacMillan London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man, E. S. (199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Triumph of the Market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gle commodity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ices fluctuates because of the world market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trained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an educational system takes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ufficient amount of people to learn th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est for capit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ek it overseas because of lack of supply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foodstuff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policies  to encourage cash cro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od for consumption diminish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 food imports to feed citiz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aid from one country to another, usually from First World countries to 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id that is funneled by a non-affiliated agency, such as the World Bank or UN ag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dered to be more obje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politically affiliated and more freedom is granted to the developing count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intru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ld Bank              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ed to help in reconstruction after WWI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loans for non-profitable construction like roads, schools, and housing projects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an money to less industrious countries for promotion of their economic growth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rnational Monetary F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ssion is to supply member states with money to help them to overcome short-term balance of payment difficu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ey is only made available after the recipients have agreed to policy reforms in their economies-to structural adjust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mbership of the World Bank is conditional upon membership of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other more industrialized countries, like the US, access to resources like cheaper labor and foreign investment with lower export tariff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73680" y="19810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equence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conomic deprev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cial expenditures are slashed, like health and educ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vironmental devas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ssive defores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ar extinction of nearby coastal fis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602400" y="3492360"/>
          <a:ext cx="349200" cy="4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02400" y="3492360"/>
                    <a:ext cx="3492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29200" y="27432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06:27:23Z</dcterms:created>
  <dc:creator>Emily Dao</dc:creator>
  <dc:description/>
  <dc:language>en-US</dc:language>
  <cp:lastModifiedBy>nbdoe</cp:lastModifiedBy>
  <dcterms:modified xsi:type="dcterms:W3CDTF">2009-11-18T14:06:35Z</dcterms:modified>
  <cp:revision>10</cp:revision>
  <dc:subject/>
  <dc:title>The Strategic Deprivation of Third World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eclectic.ss.uci.edu</vt:lpwstr>
  </property>
  <property fmtid="{D5CDD505-2E9C-101B-9397-08002B2CF9AE}" pid="9" name="LinkColor">
    <vt:r8>16711782</vt:r8>
  </property>
  <property fmtid="{D5CDD505-2E9C-101B-9397-08002B2CF9AE}" pid="10" name="MailAddress">
    <vt:lpwstr>drwhite@uci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D:\ftp\Anthro174-XC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