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3B7-EB22-4CC6-9541-9AF4A868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A86-E66E-4AAA-86AE-5B9B8021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463-72FD-46FD-B329-A54045EE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0C7-7783-43E5-8C7B-C24FA946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7E2C-C5BF-461D-B8A6-7444C162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D746-1C2D-43FD-A53A-4F945A1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B344-FECC-45F0-8381-6AE30320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12DF-24ED-4D88-9A1C-DBE730C3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643C-7663-4934-B314-69904EF0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7C96-9268-4750-83A8-B9906D92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27D-ECA5-461D-972B-3ED2EC4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CCD-F110-4741-AC45-1A1C4B6F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D55-1498-4A2F-A6D2-A200C33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C84E-F2DE-4555-8026-6B81929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4370-F193-49C0-A685-504C8E7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E9A8-C8A9-49E8-8F92-769C7C22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2030-5EDF-4614-88DD-D7271490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B49-534E-4AFD-AE1B-368124E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84F-1F9B-4DBC-8424-C4700332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01B-9A0F-41CB-90F1-6C42E313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EA7-F591-43F3-B8F4-29CE2ED3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315-66EF-464E-99CD-891985F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D4C-AC01-4001-9EAF-6D45F6C1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E40-0639-4CA8-AB6C-3AA1AF5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18A6-EB4C-4410-8738-B157EF394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C988-6BB3-4897-B89D-550131DA9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sentation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ily Ya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nbdoe</cp:lastModifiedBy>
  <dcterms:modified xsi:type="dcterms:W3CDTF">2009-11-18T14:06:35Z</dcterms:modified>
  <cp:revision>10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